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8.gif" ContentType="image/gif"/>
  <Override PartName="/ppt/media/image19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9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5C0-5267-4CAF-9FD2-735D0AE5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2F9-2EE4-4DA9-9C9E-A5E5268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6ED-AE62-469F-A35E-7EE6CB87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B5B-2A0E-4F26-B2B5-C16DE4C1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D570-BFFA-417B-8358-60467D73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62E5-6B0F-4209-94DC-E690BF60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55AE-ED0C-4B4D-8E97-56C3AD2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0D66-927E-473D-99B6-0EF1BC7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A0BC-9E95-4195-B3D2-EF1CADD1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634C-30A8-489F-8646-86616E81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DDD-313E-4382-9729-9599D80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469-4E6A-4E89-AF7F-83DC745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666-3B71-4D12-A854-81CF84D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C1F1-BC01-4E93-A9FF-409BEB9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AE59-F7F7-4FAA-A955-433A6B86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582-448B-4AF4-B01F-7D08AC04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E665-9DF2-4052-BD9A-665B082D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1AE-67E8-49FD-8439-8FFBD69C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BBF-752B-4AF4-9BD2-8529275B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15A-0AB5-4BD4-8A1C-84F36449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BF5-DE51-4F5E-B416-1D4F04A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EFE-792E-41BF-BFF9-2130ABE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931-1750-4110-A4AF-74368DE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2E0-75C3-4DCF-9BA4-792BD15D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F4A9-B31E-4810-83EB-008DB2406AE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9FA3-1D53-4128-AF45-CD96FC1EF36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8c7ce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1bbc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3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000000"/>
                </a:solidFill>
                <a:latin typeface="Arial"/>
              </a:rPr>
              <a:t>AUTORITA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183280" y="5877000"/>
            <a:ext cx="39607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raveno pod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gr. Tereza Vacín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244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1. kritérium genetické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2057400"/>
            <a:ext cx="85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rozen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osobnostní rysy, profesní dovednosti nositele, temperamentové dispozic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ískan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vlivnost získaná v průběhu činností člově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840800" y="2060640"/>
            <a:ext cx="13032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2. kritérium sociální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2057400"/>
            <a:ext cx="90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ob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přirozený vliv (vlastnosti, schopnosti a dovednosti…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zič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oficiálně a úředně předaný stupeň vli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získána plněním očekávání druhých lidí, úkolů, kvalitou výko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6481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5331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3. chování sociálního okol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kutečn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podřízení respektují stanovenou strategii a projevují vstřícnos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ánliv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projevy nedůvěry mezi podřízenými, neochota ke spolu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00000" y="5013360"/>
            <a:ext cx="151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4. kritérium sociální prestiž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ormál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míra vlivu plynoucí z postav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formál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založena na odborných a lidských kvalitách, souvisí s oblib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948360" y="4437000"/>
            <a:ext cx="15289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5. nositele v dějinném vývoj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dičovsk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rš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novnick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božensk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řed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de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396120" y="3068640"/>
            <a:ext cx="20034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6. další členění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7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tutár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dána silou mocenské pozi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ískána automaticky s fun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harismatick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vyplývá z naší osobn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born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profesní a odborné zna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rál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vztah k sobě a druhým li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19640" y="115920"/>
            <a:ext cx="374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Dva aspekty autor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lativnos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jiná míra autority v různých směrech lidské činnosti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symetričnos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vztah nadřízenosti a podříze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35640" y="4049640"/>
            <a:ext cx="354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Na čem závisí autorita učitele 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cná znalost předmět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odb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dagogické dovednost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organizace práce, příprava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stup ke studentů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přiměřená náročnost, vztah ke studentům, vyjadřování, obleč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5331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Zaručí učiteli dokonalost praxe 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utno učit se ze zkušenost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učení ze zkušeností znamená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mýšl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ovat k teori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plánovat jak provést danou věc lé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00"/>
                </a:solidFill>
                <a:latin typeface="Arial"/>
              </a:rPr>
              <a:t>Doporučená literatur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EDRNOVÁ, E.,NOVÝ,J.,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oc, vliv, autorit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ENDL, S.,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Školní kázeň – prevence, strateg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UCHS, A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utori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URKECIOVÁ, M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Řízení a rozvoj lidí ve firm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LIŠOVÁ, A. a ko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utorita jako pedagogický problé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LIŠOVÁ, A. a ko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utorita ve výchov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LIŠOVÁ, A. a ko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utorita v zrcadle výchov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LIŠOVÁ, A. a ko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Jak získat a neztrácet autoritu aneb proč má maminka vždycky pravd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LIŠOVÁ, A. a ko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lativizace autority a její vliv na současnou mládež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25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Kolbův cyklus učení dospělých</a:t>
            </a: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20480" y="1594800"/>
            <a:ext cx="7189560" cy="4315320"/>
            <a:chOff x="1320480" y="1594800"/>
            <a:chExt cx="7189560" cy="4315320"/>
          </a:xfrm>
        </p:grpSpPr>
        <p:sp>
          <p:nvSpPr>
            <p:cNvPr id="267" name="_s49158"/>
            <p:cNvSpPr/>
            <p:nvPr/>
          </p:nvSpPr>
          <p:spPr>
            <a:xfrm>
              <a:off x="2468880" y="1594800"/>
              <a:ext cx="4892040" cy="2935800"/>
            </a:xfrm>
            <a:custGeom>
              <a:avLst/>
              <a:gdLst>
                <a:gd name="textAreaLeft" fmla="*/ 0 w 4892040"/>
                <a:gd name="textAreaRight" fmla="*/ 4892400 w 4892040"/>
                <a:gd name="textAreaTop" fmla="*/ 0 h 2935800"/>
                <a:gd name="textAreaBottom" fmla="*/ 2936160 h 29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_s49159"/>
            <p:cNvSpPr/>
            <p:nvPr/>
          </p:nvSpPr>
          <p:spPr>
            <a:xfrm rot="5400000">
              <a:off x="4595760" y="1306080"/>
              <a:ext cx="2936160" cy="4892040"/>
            </a:xfrm>
            <a:custGeom>
              <a:avLst/>
              <a:gdLst>
                <a:gd name="textAreaLeft" fmla="*/ 0 w 2936160"/>
                <a:gd name="textAreaRight" fmla="*/ 2936520 w 2936160"/>
                <a:gd name="textAreaTop" fmla="*/ 0 h 4892040"/>
                <a:gd name="textAreaBottom" fmla="*/ 4892400 h 48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_s49160"/>
            <p:cNvSpPr/>
            <p:nvPr/>
          </p:nvSpPr>
          <p:spPr>
            <a:xfrm rot="10800000">
              <a:off x="2468520" y="2973960"/>
              <a:ext cx="4892040" cy="2936160"/>
            </a:xfrm>
            <a:custGeom>
              <a:avLst/>
              <a:gdLst>
                <a:gd name="textAreaLeft" fmla="*/ 0 w 4892040"/>
                <a:gd name="textAreaRight" fmla="*/ 4892400 w 4892040"/>
                <a:gd name="textAreaTop" fmla="*/ 0 h 2936160"/>
                <a:gd name="textAreaBottom" fmla="*/ 2936520 h 293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_s49161"/>
            <p:cNvSpPr/>
            <p:nvPr/>
          </p:nvSpPr>
          <p:spPr>
            <a:xfrm rot="16200000">
              <a:off x="2297880" y="1306440"/>
              <a:ext cx="2936160" cy="4891320"/>
            </a:xfrm>
            <a:custGeom>
              <a:avLst/>
              <a:gdLst>
                <a:gd name="textAreaLeft" fmla="*/ 0 w 2936160"/>
                <a:gd name="textAreaRight" fmla="*/ 2936520 w 2936160"/>
                <a:gd name="textAreaTop" fmla="*/ 0 h 4891320"/>
                <a:gd name="textAreaBottom" fmla="*/ 4891680 h 48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_s49163"/>
            <p:cNvSpPr/>
            <p:nvPr/>
          </p:nvSpPr>
          <p:spPr>
            <a:xfrm>
              <a:off x="1771200" y="4534560"/>
              <a:ext cx="18442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ffff"/>
                  </a:solidFill>
                  <a:latin typeface="Arial"/>
                </a:rPr>
                <a:t>3. úvahy o ní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a zobecněn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_s49164"/>
            <p:cNvSpPr/>
            <p:nvPr/>
          </p:nvSpPr>
          <p:spPr>
            <a:xfrm>
              <a:off x="1765080" y="1865160"/>
              <a:ext cx="1844280" cy="11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ffff"/>
                  </a:solidFill>
                  <a:latin typeface="Arial"/>
                </a:rPr>
                <a:t>4. aktivní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ffff"/>
                  </a:solidFill>
                  <a:latin typeface="Arial"/>
                </a:rPr>
                <a:t>experimentování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Arial"/>
                </a:rPr>
                <a:t>plánován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Arial"/>
                </a:rPr>
                <a:t>Co změníme, zachováme příště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_s49165"/>
            <p:cNvSpPr/>
            <p:nvPr/>
          </p:nvSpPr>
          <p:spPr>
            <a:xfrm>
              <a:off x="6218280" y="4530960"/>
              <a:ext cx="18442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ffff"/>
                  </a:solidFill>
                  <a:latin typeface="Arial"/>
                </a:rPr>
                <a:t>2. reflexe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ffff"/>
                  </a:solidFill>
                  <a:latin typeface="Arial"/>
                </a:rPr>
                <a:t>této zkušenosti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_s49166"/>
            <p:cNvSpPr/>
            <p:nvPr/>
          </p:nvSpPr>
          <p:spPr>
            <a:xfrm>
              <a:off x="6215400" y="1861560"/>
              <a:ext cx="18442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ffff"/>
                  </a:solidFill>
                  <a:latin typeface="Arial"/>
                </a:rPr>
                <a:t>konkrétní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ffff"/>
                  </a:solidFill>
                  <a:latin typeface="Arial"/>
                </a:rPr>
                <a:t>zkušen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5331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Základ autority pedagoga podle učitelů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2844720" cy="3671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516720" y="206064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ůsledno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429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le učit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450864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08720" y="3429000"/>
            <a:ext cx="2735280" cy="1224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tnersk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ztah ke studentů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56360" y="4941720"/>
            <a:ext cx="2843280" cy="14414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dagogic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daktic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ved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5661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ědomosti a odborn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nal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661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ravní sí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2421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ice 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ierarchii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1413000"/>
            <a:ext cx="244764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89000"/>
            <a:ext cx="8569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 autority pedagoga podle uč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lastnosti podporující autoritu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823760" y="315000"/>
            <a:ext cx="5496480" cy="610920"/>
          </a:xfrm>
          <a:prstGeom prst="rect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6191280" cy="5327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643280" y="2492280"/>
            <a:ext cx="172908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ůsledno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2708280"/>
            <a:ext cx="172908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bor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43640" y="3429000"/>
            <a:ext cx="172872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r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32720" y="4292640"/>
            <a:ext cx="172872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ravedl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013360"/>
            <a:ext cx="144000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mp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5661000"/>
            <a:ext cx="129528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6210360"/>
            <a:ext cx="172872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munik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24360" y="6210360"/>
            <a:ext cx="194328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mět přizn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yb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64000" y="4005360"/>
            <a:ext cx="136836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ročno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92360" y="4869000"/>
            <a:ext cx="122400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k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5589720"/>
            <a:ext cx="129708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um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Co autoritu oslabu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516720" y="206064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íz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ědom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3429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čestné jedn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450864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spravedl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08720" y="3429000"/>
            <a:ext cx="2735280" cy="1224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asná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munik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56360" y="4941720"/>
            <a:ext cx="2843280" cy="14414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vyrovna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5661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dodržení slib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5661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rozhod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2421000"/>
            <a:ext cx="244800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důsled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1413000"/>
            <a:ext cx="2447640" cy="1008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zna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189000"/>
            <a:ext cx="8569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o autoritu oslabuje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711520" y="1047600"/>
            <a:ext cx="4311000" cy="4708440"/>
            <a:chOff x="2711520" y="1047600"/>
            <a:chExt cx="4311000" cy="4708440"/>
          </a:xfrm>
        </p:grpSpPr>
        <p:grpSp>
          <p:nvGrpSpPr>
            <p:cNvPr id="316" name=""/>
            <p:cNvGrpSpPr/>
            <p:nvPr/>
          </p:nvGrpSpPr>
          <p:grpSpPr>
            <a:xfrm>
              <a:off x="3867120" y="1905120"/>
              <a:ext cx="2041560" cy="3760920"/>
              <a:chOff x="3867120" y="1905120"/>
              <a:chExt cx="2041560" cy="3760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121280" y="1905120"/>
                <a:ext cx="807120" cy="871920"/>
              </a:xfrm>
              <a:custGeom>
                <a:avLst/>
                <a:gdLst/>
                <a:ahLst/>
                <a:rect l="l" t="t" r="r" b="b"/>
                <a:pathLst>
                  <a:path w="493" h="486">
                    <a:moveTo>
                      <a:pt x="157" y="29"/>
                    </a:moveTo>
                    <a:lnTo>
                      <a:pt x="200" y="6"/>
                    </a:lnTo>
                    <a:lnTo>
                      <a:pt x="254" y="0"/>
                    </a:lnTo>
                    <a:lnTo>
                      <a:pt x="303" y="14"/>
                    </a:lnTo>
                    <a:lnTo>
                      <a:pt x="357" y="47"/>
                    </a:lnTo>
                    <a:lnTo>
                      <a:pt x="423" y="124"/>
                    </a:lnTo>
                    <a:lnTo>
                      <a:pt x="469" y="215"/>
                    </a:lnTo>
                    <a:lnTo>
                      <a:pt x="491" y="292"/>
                    </a:lnTo>
                    <a:lnTo>
                      <a:pt x="493" y="366"/>
                    </a:lnTo>
                    <a:lnTo>
                      <a:pt x="484" y="423"/>
                    </a:lnTo>
                    <a:lnTo>
                      <a:pt x="454" y="463"/>
                    </a:lnTo>
                    <a:lnTo>
                      <a:pt x="411" y="486"/>
                    </a:lnTo>
                    <a:lnTo>
                      <a:pt x="373" y="473"/>
                    </a:lnTo>
                    <a:lnTo>
                      <a:pt x="311" y="453"/>
                    </a:lnTo>
                    <a:lnTo>
                      <a:pt x="241" y="379"/>
                    </a:lnTo>
                    <a:lnTo>
                      <a:pt x="187" y="287"/>
                    </a:lnTo>
                    <a:lnTo>
                      <a:pt x="182" y="272"/>
                    </a:lnTo>
                    <a:lnTo>
                      <a:pt x="32" y="250"/>
                    </a:lnTo>
                    <a:lnTo>
                      <a:pt x="0" y="207"/>
                    </a:lnTo>
                    <a:lnTo>
                      <a:pt x="11" y="192"/>
                    </a:lnTo>
                    <a:lnTo>
                      <a:pt x="173" y="229"/>
                    </a:lnTo>
                    <a:lnTo>
                      <a:pt x="146" y="174"/>
                    </a:lnTo>
                    <a:lnTo>
                      <a:pt x="134" y="98"/>
                    </a:lnTo>
                    <a:lnTo>
                      <a:pt x="146" y="55"/>
                    </a:lnTo>
                    <a:lnTo>
                      <a:pt x="15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867120" y="2822040"/>
                <a:ext cx="834120" cy="1734840"/>
              </a:xfrm>
              <a:custGeom>
                <a:avLst/>
                <a:gdLst/>
                <a:ahLst/>
                <a:rect l="l" t="t" r="r" b="b"/>
                <a:pathLst>
                  <a:path w="509" h="967">
                    <a:moveTo>
                      <a:pt x="373" y="174"/>
                    </a:moveTo>
                    <a:lnTo>
                      <a:pt x="417" y="145"/>
                    </a:lnTo>
                    <a:lnTo>
                      <a:pt x="475" y="112"/>
                    </a:lnTo>
                    <a:lnTo>
                      <a:pt x="509" y="45"/>
                    </a:lnTo>
                    <a:lnTo>
                      <a:pt x="491" y="12"/>
                    </a:lnTo>
                    <a:lnTo>
                      <a:pt x="451" y="0"/>
                    </a:lnTo>
                    <a:lnTo>
                      <a:pt x="402" y="28"/>
                    </a:lnTo>
                    <a:lnTo>
                      <a:pt x="326" y="97"/>
                    </a:lnTo>
                    <a:lnTo>
                      <a:pt x="262" y="154"/>
                    </a:lnTo>
                    <a:lnTo>
                      <a:pt x="207" y="217"/>
                    </a:lnTo>
                    <a:lnTo>
                      <a:pt x="126" y="280"/>
                    </a:lnTo>
                    <a:lnTo>
                      <a:pt x="54" y="362"/>
                    </a:lnTo>
                    <a:lnTo>
                      <a:pt x="63" y="479"/>
                    </a:lnTo>
                    <a:lnTo>
                      <a:pt x="54" y="578"/>
                    </a:lnTo>
                    <a:lnTo>
                      <a:pt x="54" y="660"/>
                    </a:lnTo>
                    <a:lnTo>
                      <a:pt x="36" y="741"/>
                    </a:lnTo>
                    <a:lnTo>
                      <a:pt x="18" y="795"/>
                    </a:lnTo>
                    <a:lnTo>
                      <a:pt x="0" y="922"/>
                    </a:lnTo>
                    <a:lnTo>
                      <a:pt x="54" y="967"/>
                    </a:lnTo>
                    <a:lnTo>
                      <a:pt x="18" y="949"/>
                    </a:lnTo>
                    <a:lnTo>
                      <a:pt x="99" y="931"/>
                    </a:lnTo>
                    <a:lnTo>
                      <a:pt x="36" y="904"/>
                    </a:lnTo>
                    <a:lnTo>
                      <a:pt x="144" y="922"/>
                    </a:lnTo>
                    <a:lnTo>
                      <a:pt x="144" y="849"/>
                    </a:lnTo>
                    <a:lnTo>
                      <a:pt x="108" y="768"/>
                    </a:lnTo>
                    <a:lnTo>
                      <a:pt x="117" y="687"/>
                    </a:lnTo>
                    <a:lnTo>
                      <a:pt x="126" y="578"/>
                    </a:lnTo>
                    <a:lnTo>
                      <a:pt x="126" y="488"/>
                    </a:lnTo>
                    <a:lnTo>
                      <a:pt x="117" y="398"/>
                    </a:lnTo>
                    <a:lnTo>
                      <a:pt x="238" y="281"/>
                    </a:lnTo>
                    <a:lnTo>
                      <a:pt x="295" y="228"/>
                    </a:lnTo>
                    <a:lnTo>
                      <a:pt x="373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83040" y="2863080"/>
                <a:ext cx="1025640" cy="1532160"/>
              </a:xfrm>
              <a:custGeom>
                <a:avLst/>
                <a:gdLst/>
                <a:ahLst/>
                <a:rect l="l" t="t" r="r" b="b"/>
                <a:pathLst>
                  <a:path w="626" h="854">
                    <a:moveTo>
                      <a:pt x="90" y="156"/>
                    </a:moveTo>
                    <a:lnTo>
                      <a:pt x="45" y="120"/>
                    </a:lnTo>
                    <a:lnTo>
                      <a:pt x="23" y="90"/>
                    </a:lnTo>
                    <a:lnTo>
                      <a:pt x="2" y="34"/>
                    </a:lnTo>
                    <a:lnTo>
                      <a:pt x="0" y="0"/>
                    </a:lnTo>
                    <a:lnTo>
                      <a:pt x="84" y="13"/>
                    </a:lnTo>
                    <a:lnTo>
                      <a:pt x="75" y="13"/>
                    </a:lnTo>
                    <a:lnTo>
                      <a:pt x="119" y="9"/>
                    </a:lnTo>
                    <a:lnTo>
                      <a:pt x="166" y="52"/>
                    </a:lnTo>
                    <a:lnTo>
                      <a:pt x="239" y="143"/>
                    </a:lnTo>
                    <a:lnTo>
                      <a:pt x="312" y="208"/>
                    </a:lnTo>
                    <a:lnTo>
                      <a:pt x="367" y="255"/>
                    </a:lnTo>
                    <a:lnTo>
                      <a:pt x="473" y="366"/>
                    </a:lnTo>
                    <a:lnTo>
                      <a:pt x="500" y="465"/>
                    </a:lnTo>
                    <a:lnTo>
                      <a:pt x="515" y="549"/>
                    </a:lnTo>
                    <a:lnTo>
                      <a:pt x="545" y="619"/>
                    </a:lnTo>
                    <a:lnTo>
                      <a:pt x="563" y="673"/>
                    </a:lnTo>
                    <a:lnTo>
                      <a:pt x="590" y="736"/>
                    </a:lnTo>
                    <a:lnTo>
                      <a:pt x="626" y="808"/>
                    </a:lnTo>
                    <a:lnTo>
                      <a:pt x="599" y="854"/>
                    </a:lnTo>
                    <a:lnTo>
                      <a:pt x="554" y="835"/>
                    </a:lnTo>
                    <a:lnTo>
                      <a:pt x="527" y="776"/>
                    </a:lnTo>
                    <a:lnTo>
                      <a:pt x="482" y="799"/>
                    </a:lnTo>
                    <a:lnTo>
                      <a:pt x="455" y="745"/>
                    </a:lnTo>
                    <a:lnTo>
                      <a:pt x="511" y="717"/>
                    </a:lnTo>
                    <a:lnTo>
                      <a:pt x="493" y="653"/>
                    </a:lnTo>
                    <a:lnTo>
                      <a:pt x="455" y="555"/>
                    </a:lnTo>
                    <a:lnTo>
                      <a:pt x="455" y="456"/>
                    </a:lnTo>
                    <a:lnTo>
                      <a:pt x="364" y="339"/>
                    </a:lnTo>
                    <a:lnTo>
                      <a:pt x="288" y="298"/>
                    </a:lnTo>
                    <a:lnTo>
                      <a:pt x="208" y="236"/>
                    </a:lnTo>
                    <a:lnTo>
                      <a:pt x="133" y="186"/>
                    </a:lnTo>
                    <a:lnTo>
                      <a:pt x="9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61840" y="2852640"/>
                <a:ext cx="658440" cy="1361880"/>
              </a:xfrm>
              <a:custGeom>
                <a:avLst/>
                <a:gdLst/>
                <a:ahLst/>
                <a:rect l="l" t="t" r="r" b="b"/>
                <a:pathLst>
                  <a:path w="402" h="759">
                    <a:moveTo>
                      <a:pt x="154" y="0"/>
                    </a:moveTo>
                    <a:lnTo>
                      <a:pt x="215" y="0"/>
                    </a:lnTo>
                    <a:lnTo>
                      <a:pt x="288" y="14"/>
                    </a:lnTo>
                    <a:lnTo>
                      <a:pt x="329" y="54"/>
                    </a:lnTo>
                    <a:lnTo>
                      <a:pt x="368" y="128"/>
                    </a:lnTo>
                    <a:lnTo>
                      <a:pt x="389" y="182"/>
                    </a:lnTo>
                    <a:lnTo>
                      <a:pt x="402" y="249"/>
                    </a:lnTo>
                    <a:lnTo>
                      <a:pt x="402" y="329"/>
                    </a:lnTo>
                    <a:lnTo>
                      <a:pt x="395" y="410"/>
                    </a:lnTo>
                    <a:lnTo>
                      <a:pt x="389" y="497"/>
                    </a:lnTo>
                    <a:lnTo>
                      <a:pt x="362" y="604"/>
                    </a:lnTo>
                    <a:lnTo>
                      <a:pt x="329" y="679"/>
                    </a:lnTo>
                    <a:lnTo>
                      <a:pt x="268" y="739"/>
                    </a:lnTo>
                    <a:lnTo>
                      <a:pt x="201" y="759"/>
                    </a:lnTo>
                    <a:lnTo>
                      <a:pt x="128" y="739"/>
                    </a:lnTo>
                    <a:lnTo>
                      <a:pt x="80" y="645"/>
                    </a:lnTo>
                    <a:lnTo>
                      <a:pt x="48" y="558"/>
                    </a:lnTo>
                    <a:lnTo>
                      <a:pt x="27" y="456"/>
                    </a:lnTo>
                    <a:lnTo>
                      <a:pt x="0" y="363"/>
                    </a:lnTo>
                    <a:lnTo>
                      <a:pt x="0" y="235"/>
                    </a:lnTo>
                    <a:lnTo>
                      <a:pt x="21" y="148"/>
                    </a:lnTo>
                    <a:lnTo>
                      <a:pt x="48" y="80"/>
                    </a:lnTo>
                    <a:lnTo>
                      <a:pt x="80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01040" y="4022640"/>
                <a:ext cx="505800" cy="1564560"/>
              </a:xfrm>
              <a:custGeom>
                <a:avLst/>
                <a:gdLst/>
                <a:ahLst/>
                <a:rect l="l" t="t" r="r" b="b"/>
                <a:pathLst>
                  <a:path w="309" h="872">
                    <a:moveTo>
                      <a:pt x="57" y="100"/>
                    </a:moveTo>
                    <a:lnTo>
                      <a:pt x="17" y="43"/>
                    </a:lnTo>
                    <a:lnTo>
                      <a:pt x="30" y="0"/>
                    </a:lnTo>
                    <a:lnTo>
                      <a:pt x="71" y="0"/>
                    </a:lnTo>
                    <a:lnTo>
                      <a:pt x="117" y="46"/>
                    </a:lnTo>
                    <a:lnTo>
                      <a:pt x="178" y="143"/>
                    </a:lnTo>
                    <a:lnTo>
                      <a:pt x="212" y="236"/>
                    </a:lnTo>
                    <a:lnTo>
                      <a:pt x="242" y="325"/>
                    </a:lnTo>
                    <a:lnTo>
                      <a:pt x="252" y="407"/>
                    </a:lnTo>
                    <a:lnTo>
                      <a:pt x="248" y="450"/>
                    </a:lnTo>
                    <a:lnTo>
                      <a:pt x="219" y="503"/>
                    </a:lnTo>
                    <a:lnTo>
                      <a:pt x="168" y="647"/>
                    </a:lnTo>
                    <a:lnTo>
                      <a:pt x="111" y="728"/>
                    </a:lnTo>
                    <a:lnTo>
                      <a:pt x="97" y="764"/>
                    </a:lnTo>
                    <a:lnTo>
                      <a:pt x="151" y="771"/>
                    </a:lnTo>
                    <a:lnTo>
                      <a:pt x="222" y="771"/>
                    </a:lnTo>
                    <a:lnTo>
                      <a:pt x="309" y="804"/>
                    </a:lnTo>
                    <a:lnTo>
                      <a:pt x="303" y="829"/>
                    </a:lnTo>
                    <a:lnTo>
                      <a:pt x="289" y="857"/>
                    </a:lnTo>
                    <a:lnTo>
                      <a:pt x="262" y="872"/>
                    </a:lnTo>
                    <a:lnTo>
                      <a:pt x="209" y="850"/>
                    </a:lnTo>
                    <a:lnTo>
                      <a:pt x="151" y="818"/>
                    </a:lnTo>
                    <a:lnTo>
                      <a:pt x="71" y="814"/>
                    </a:lnTo>
                    <a:lnTo>
                      <a:pt x="20" y="825"/>
                    </a:lnTo>
                    <a:lnTo>
                      <a:pt x="0" y="807"/>
                    </a:lnTo>
                    <a:lnTo>
                      <a:pt x="0" y="782"/>
                    </a:lnTo>
                    <a:lnTo>
                      <a:pt x="27" y="754"/>
                    </a:lnTo>
                    <a:lnTo>
                      <a:pt x="71" y="707"/>
                    </a:lnTo>
                    <a:lnTo>
                      <a:pt x="148" y="589"/>
                    </a:lnTo>
                    <a:lnTo>
                      <a:pt x="182" y="485"/>
                    </a:lnTo>
                    <a:lnTo>
                      <a:pt x="192" y="386"/>
                    </a:lnTo>
                    <a:lnTo>
                      <a:pt x="188" y="332"/>
                    </a:lnTo>
                    <a:lnTo>
                      <a:pt x="161" y="236"/>
                    </a:lnTo>
                    <a:lnTo>
                      <a:pt x="90" y="132"/>
                    </a:lnTo>
                    <a:lnTo>
                      <a:pt x="41" y="79"/>
                    </a:lnTo>
                    <a:lnTo>
                      <a:pt x="57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30720" y="3997440"/>
                <a:ext cx="504360" cy="1668600"/>
              </a:xfrm>
              <a:custGeom>
                <a:avLst/>
                <a:gdLst/>
                <a:ahLst/>
                <a:rect l="l" t="t" r="r" b="b"/>
                <a:pathLst>
                  <a:path w="308" h="930">
                    <a:moveTo>
                      <a:pt x="159" y="167"/>
                    </a:moveTo>
                    <a:lnTo>
                      <a:pt x="207" y="74"/>
                    </a:lnTo>
                    <a:lnTo>
                      <a:pt x="252" y="0"/>
                    </a:lnTo>
                    <a:lnTo>
                      <a:pt x="286" y="0"/>
                    </a:lnTo>
                    <a:lnTo>
                      <a:pt x="305" y="30"/>
                    </a:lnTo>
                    <a:lnTo>
                      <a:pt x="308" y="80"/>
                    </a:lnTo>
                    <a:lnTo>
                      <a:pt x="280" y="116"/>
                    </a:lnTo>
                    <a:lnTo>
                      <a:pt x="232" y="164"/>
                    </a:lnTo>
                    <a:lnTo>
                      <a:pt x="193" y="217"/>
                    </a:lnTo>
                    <a:lnTo>
                      <a:pt x="154" y="290"/>
                    </a:lnTo>
                    <a:lnTo>
                      <a:pt x="137" y="340"/>
                    </a:lnTo>
                    <a:lnTo>
                      <a:pt x="120" y="404"/>
                    </a:lnTo>
                    <a:lnTo>
                      <a:pt x="117" y="485"/>
                    </a:lnTo>
                    <a:lnTo>
                      <a:pt x="123" y="558"/>
                    </a:lnTo>
                    <a:lnTo>
                      <a:pt x="142" y="648"/>
                    </a:lnTo>
                    <a:lnTo>
                      <a:pt x="178" y="729"/>
                    </a:lnTo>
                    <a:lnTo>
                      <a:pt x="210" y="775"/>
                    </a:lnTo>
                    <a:lnTo>
                      <a:pt x="229" y="809"/>
                    </a:lnTo>
                    <a:lnTo>
                      <a:pt x="232" y="836"/>
                    </a:lnTo>
                    <a:lnTo>
                      <a:pt x="216" y="845"/>
                    </a:lnTo>
                    <a:lnTo>
                      <a:pt x="176" y="852"/>
                    </a:lnTo>
                    <a:lnTo>
                      <a:pt x="117" y="872"/>
                    </a:lnTo>
                    <a:lnTo>
                      <a:pt x="72" y="899"/>
                    </a:lnTo>
                    <a:lnTo>
                      <a:pt x="44" y="930"/>
                    </a:lnTo>
                    <a:lnTo>
                      <a:pt x="19" y="923"/>
                    </a:lnTo>
                    <a:lnTo>
                      <a:pt x="0" y="886"/>
                    </a:lnTo>
                    <a:lnTo>
                      <a:pt x="0" y="855"/>
                    </a:lnTo>
                    <a:lnTo>
                      <a:pt x="44" y="829"/>
                    </a:lnTo>
                    <a:lnTo>
                      <a:pt x="120" y="812"/>
                    </a:lnTo>
                    <a:lnTo>
                      <a:pt x="190" y="802"/>
                    </a:lnTo>
                    <a:lnTo>
                      <a:pt x="159" y="765"/>
                    </a:lnTo>
                    <a:lnTo>
                      <a:pt x="140" y="718"/>
                    </a:lnTo>
                    <a:lnTo>
                      <a:pt x="114" y="652"/>
                    </a:lnTo>
                    <a:lnTo>
                      <a:pt x="86" y="582"/>
                    </a:lnTo>
                    <a:lnTo>
                      <a:pt x="78" y="495"/>
                    </a:lnTo>
                    <a:lnTo>
                      <a:pt x="76" y="411"/>
                    </a:lnTo>
                    <a:lnTo>
                      <a:pt x="95" y="331"/>
                    </a:lnTo>
                    <a:lnTo>
                      <a:pt x="131" y="224"/>
                    </a:lnTo>
                    <a:lnTo>
                      <a:pt x="159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711520" y="4089600"/>
              <a:ext cx="4311000" cy="1666440"/>
              <a:chOff x="2711520" y="4089600"/>
              <a:chExt cx="4311000" cy="1666440"/>
            </a:xfrm>
          </p:grpSpPr>
          <p:sp>
            <p:nvSpPr>
              <p:cNvPr id="324" name=""/>
              <p:cNvSpPr/>
              <p:nvPr/>
            </p:nvSpPr>
            <p:spPr>
              <a:xfrm>
                <a:off x="3362040" y="4351320"/>
                <a:ext cx="3003840" cy="505440"/>
              </a:xfrm>
              <a:custGeom>
                <a:avLst/>
                <a:gdLst/>
                <a:ahLst/>
                <a:rect l="l" t="t" r="r" b="b"/>
                <a:pathLst>
                  <a:path w="1833" h="282">
                    <a:moveTo>
                      <a:pt x="0" y="198"/>
                    </a:moveTo>
                    <a:lnTo>
                      <a:pt x="127" y="144"/>
                    </a:lnTo>
                    <a:lnTo>
                      <a:pt x="218" y="110"/>
                    </a:lnTo>
                    <a:lnTo>
                      <a:pt x="312" y="87"/>
                    </a:lnTo>
                    <a:lnTo>
                      <a:pt x="433" y="61"/>
                    </a:lnTo>
                    <a:lnTo>
                      <a:pt x="571" y="40"/>
                    </a:lnTo>
                    <a:lnTo>
                      <a:pt x="765" y="17"/>
                    </a:lnTo>
                    <a:lnTo>
                      <a:pt x="1037" y="0"/>
                    </a:lnTo>
                    <a:lnTo>
                      <a:pt x="1216" y="0"/>
                    </a:lnTo>
                    <a:lnTo>
                      <a:pt x="1343" y="6"/>
                    </a:lnTo>
                    <a:lnTo>
                      <a:pt x="1490" y="20"/>
                    </a:lnTo>
                    <a:lnTo>
                      <a:pt x="1611" y="34"/>
                    </a:lnTo>
                    <a:lnTo>
                      <a:pt x="1735" y="61"/>
                    </a:lnTo>
                    <a:lnTo>
                      <a:pt x="1833" y="93"/>
                    </a:lnTo>
                    <a:lnTo>
                      <a:pt x="1803" y="192"/>
                    </a:lnTo>
                    <a:lnTo>
                      <a:pt x="1711" y="165"/>
                    </a:lnTo>
                    <a:lnTo>
                      <a:pt x="1597" y="141"/>
                    </a:lnTo>
                    <a:lnTo>
                      <a:pt x="1490" y="121"/>
                    </a:lnTo>
                    <a:lnTo>
                      <a:pt x="1383" y="110"/>
                    </a:lnTo>
                    <a:lnTo>
                      <a:pt x="1282" y="110"/>
                    </a:lnTo>
                    <a:lnTo>
                      <a:pt x="1134" y="107"/>
                    </a:lnTo>
                    <a:lnTo>
                      <a:pt x="1000" y="110"/>
                    </a:lnTo>
                    <a:lnTo>
                      <a:pt x="765" y="124"/>
                    </a:lnTo>
                    <a:lnTo>
                      <a:pt x="617" y="137"/>
                    </a:lnTo>
                    <a:lnTo>
                      <a:pt x="537" y="151"/>
                    </a:lnTo>
                    <a:lnTo>
                      <a:pt x="443" y="161"/>
                    </a:lnTo>
                    <a:lnTo>
                      <a:pt x="349" y="181"/>
                    </a:lnTo>
                    <a:lnTo>
                      <a:pt x="242" y="211"/>
                    </a:lnTo>
                    <a:lnTo>
                      <a:pt x="178" y="228"/>
                    </a:lnTo>
                    <a:lnTo>
                      <a:pt x="108" y="258"/>
                    </a:lnTo>
                    <a:lnTo>
                      <a:pt x="47" y="282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6236280" y="4089600"/>
                <a:ext cx="786240" cy="1436760"/>
                <a:chOff x="6236280" y="4089600"/>
                <a:chExt cx="786240" cy="1436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342840" y="4127400"/>
                  <a:ext cx="679680" cy="1398960"/>
                </a:xfrm>
                <a:custGeom>
                  <a:avLst/>
                  <a:gdLst/>
                  <a:ahLst/>
                  <a:rect l="l" t="t" r="r" b="b"/>
                  <a:pathLst>
                    <a:path w="415" h="780">
                      <a:moveTo>
                        <a:pt x="367" y="445"/>
                      </a:moveTo>
                      <a:lnTo>
                        <a:pt x="379" y="404"/>
                      </a:lnTo>
                      <a:lnTo>
                        <a:pt x="390" y="364"/>
                      </a:lnTo>
                      <a:lnTo>
                        <a:pt x="400" y="322"/>
                      </a:lnTo>
                      <a:lnTo>
                        <a:pt x="406" y="283"/>
                      </a:lnTo>
                      <a:lnTo>
                        <a:pt x="412" y="246"/>
                      </a:lnTo>
                      <a:lnTo>
                        <a:pt x="414" y="208"/>
                      </a:lnTo>
                      <a:lnTo>
                        <a:pt x="415" y="172"/>
                      </a:lnTo>
                      <a:lnTo>
                        <a:pt x="413" y="140"/>
                      </a:lnTo>
                      <a:lnTo>
                        <a:pt x="408" y="111"/>
                      </a:lnTo>
                      <a:lnTo>
                        <a:pt x="402" y="83"/>
                      </a:lnTo>
                      <a:lnTo>
                        <a:pt x="394" y="60"/>
                      </a:lnTo>
                      <a:lnTo>
                        <a:pt x="382" y="41"/>
                      </a:lnTo>
                      <a:lnTo>
                        <a:pt x="370" y="24"/>
                      </a:lnTo>
                      <a:lnTo>
                        <a:pt x="356" y="13"/>
                      </a:lnTo>
                      <a:lnTo>
                        <a:pt x="341" y="5"/>
                      </a:lnTo>
                      <a:lnTo>
                        <a:pt x="323" y="0"/>
                      </a:lnTo>
                      <a:lnTo>
                        <a:pt x="304" y="2"/>
                      </a:lnTo>
                      <a:lnTo>
                        <a:pt x="284" y="7"/>
                      </a:lnTo>
                      <a:lnTo>
                        <a:pt x="264" y="15"/>
                      </a:lnTo>
                      <a:lnTo>
                        <a:pt x="244" y="29"/>
                      </a:lnTo>
                      <a:lnTo>
                        <a:pt x="221" y="46"/>
                      </a:lnTo>
                      <a:lnTo>
                        <a:pt x="199" y="67"/>
                      </a:lnTo>
                      <a:lnTo>
                        <a:pt x="178" y="91"/>
                      </a:lnTo>
                      <a:lnTo>
                        <a:pt x="157" y="119"/>
                      </a:lnTo>
                      <a:lnTo>
                        <a:pt x="136" y="151"/>
                      </a:lnTo>
                      <a:lnTo>
                        <a:pt x="116" y="183"/>
                      </a:lnTo>
                      <a:lnTo>
                        <a:pt x="97" y="218"/>
                      </a:lnTo>
                      <a:lnTo>
                        <a:pt x="79" y="257"/>
                      </a:lnTo>
                      <a:lnTo>
                        <a:pt x="63" y="295"/>
                      </a:lnTo>
                      <a:lnTo>
                        <a:pt x="48" y="335"/>
                      </a:lnTo>
                      <a:lnTo>
                        <a:pt x="36" y="376"/>
                      </a:lnTo>
                      <a:lnTo>
                        <a:pt x="24" y="416"/>
                      </a:lnTo>
                      <a:lnTo>
                        <a:pt x="14" y="458"/>
                      </a:lnTo>
                      <a:lnTo>
                        <a:pt x="9" y="497"/>
                      </a:lnTo>
                      <a:lnTo>
                        <a:pt x="3" y="535"/>
                      </a:lnTo>
                      <a:lnTo>
                        <a:pt x="1" y="572"/>
                      </a:lnTo>
                      <a:lnTo>
                        <a:pt x="0" y="608"/>
                      </a:lnTo>
                      <a:lnTo>
                        <a:pt x="2" y="640"/>
                      </a:lnTo>
                      <a:lnTo>
                        <a:pt x="6" y="669"/>
                      </a:lnTo>
                      <a:lnTo>
                        <a:pt x="13" y="697"/>
                      </a:lnTo>
                      <a:lnTo>
                        <a:pt x="21" y="720"/>
                      </a:lnTo>
                      <a:lnTo>
                        <a:pt x="32" y="739"/>
                      </a:lnTo>
                      <a:lnTo>
                        <a:pt x="45" y="756"/>
                      </a:lnTo>
                      <a:lnTo>
                        <a:pt x="58" y="767"/>
                      </a:lnTo>
                      <a:lnTo>
                        <a:pt x="74" y="775"/>
                      </a:lnTo>
                      <a:lnTo>
                        <a:pt x="92" y="780"/>
                      </a:lnTo>
                      <a:lnTo>
                        <a:pt x="110" y="779"/>
                      </a:lnTo>
                      <a:lnTo>
                        <a:pt x="131" y="773"/>
                      </a:lnTo>
                      <a:lnTo>
                        <a:pt x="151" y="765"/>
                      </a:lnTo>
                      <a:lnTo>
                        <a:pt x="171" y="751"/>
                      </a:lnTo>
                      <a:lnTo>
                        <a:pt x="194" y="734"/>
                      </a:lnTo>
                      <a:lnTo>
                        <a:pt x="215" y="713"/>
                      </a:lnTo>
                      <a:lnTo>
                        <a:pt x="237" y="689"/>
                      </a:lnTo>
                      <a:lnTo>
                        <a:pt x="258" y="661"/>
                      </a:lnTo>
                      <a:lnTo>
                        <a:pt x="279" y="629"/>
                      </a:lnTo>
                      <a:lnTo>
                        <a:pt x="299" y="597"/>
                      </a:lnTo>
                      <a:lnTo>
                        <a:pt x="318" y="562"/>
                      </a:lnTo>
                      <a:lnTo>
                        <a:pt x="336" y="523"/>
                      </a:lnTo>
                      <a:lnTo>
                        <a:pt x="352" y="485"/>
                      </a:lnTo>
                      <a:lnTo>
                        <a:pt x="367" y="445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6280" y="4089600"/>
                  <a:ext cx="712800" cy="1422720"/>
                </a:xfrm>
                <a:custGeom>
                  <a:avLst/>
                  <a:gdLst/>
                  <a:ahLst/>
                  <a:rect l="l" t="t" r="r" b="b"/>
                  <a:pathLst>
                    <a:path w="435" h="793">
                      <a:moveTo>
                        <a:pt x="435" y="38"/>
                      </a:moveTo>
                      <a:lnTo>
                        <a:pt x="394" y="35"/>
                      </a:lnTo>
                      <a:lnTo>
                        <a:pt x="354" y="43"/>
                      </a:lnTo>
                      <a:lnTo>
                        <a:pt x="321" y="76"/>
                      </a:lnTo>
                      <a:lnTo>
                        <a:pt x="274" y="111"/>
                      </a:lnTo>
                      <a:lnTo>
                        <a:pt x="251" y="143"/>
                      </a:lnTo>
                      <a:lnTo>
                        <a:pt x="226" y="178"/>
                      </a:lnTo>
                      <a:lnTo>
                        <a:pt x="198" y="237"/>
                      </a:lnTo>
                      <a:lnTo>
                        <a:pt x="179" y="289"/>
                      </a:lnTo>
                      <a:lnTo>
                        <a:pt x="150" y="344"/>
                      </a:lnTo>
                      <a:lnTo>
                        <a:pt x="133" y="395"/>
                      </a:lnTo>
                      <a:lnTo>
                        <a:pt x="111" y="479"/>
                      </a:lnTo>
                      <a:lnTo>
                        <a:pt x="101" y="549"/>
                      </a:lnTo>
                      <a:lnTo>
                        <a:pt x="93" y="609"/>
                      </a:lnTo>
                      <a:lnTo>
                        <a:pt x="91" y="664"/>
                      </a:lnTo>
                      <a:lnTo>
                        <a:pt x="105" y="729"/>
                      </a:lnTo>
                      <a:lnTo>
                        <a:pt x="115" y="766"/>
                      </a:lnTo>
                      <a:lnTo>
                        <a:pt x="143" y="793"/>
                      </a:lnTo>
                      <a:lnTo>
                        <a:pt x="30" y="740"/>
                      </a:lnTo>
                      <a:lnTo>
                        <a:pt x="7" y="690"/>
                      </a:lnTo>
                      <a:lnTo>
                        <a:pt x="0" y="649"/>
                      </a:lnTo>
                      <a:lnTo>
                        <a:pt x="2" y="589"/>
                      </a:lnTo>
                      <a:lnTo>
                        <a:pt x="2" y="518"/>
                      </a:lnTo>
                      <a:lnTo>
                        <a:pt x="15" y="438"/>
                      </a:lnTo>
                      <a:lnTo>
                        <a:pt x="35" y="373"/>
                      </a:lnTo>
                      <a:lnTo>
                        <a:pt x="62" y="285"/>
                      </a:lnTo>
                      <a:lnTo>
                        <a:pt x="105" y="186"/>
                      </a:lnTo>
                      <a:lnTo>
                        <a:pt x="153" y="113"/>
                      </a:lnTo>
                      <a:lnTo>
                        <a:pt x="206" y="51"/>
                      </a:lnTo>
                      <a:lnTo>
                        <a:pt x="234" y="28"/>
                      </a:lnTo>
                      <a:lnTo>
                        <a:pt x="274" y="6"/>
                      </a:lnTo>
                      <a:lnTo>
                        <a:pt x="294" y="0"/>
                      </a:lnTo>
                      <a:lnTo>
                        <a:pt x="435" y="38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6440" y="4694040"/>
                  <a:ext cx="158400" cy="306720"/>
                </a:xfrm>
                <a:custGeom>
                  <a:avLst/>
                  <a:gdLst/>
                  <a:ahLst/>
                  <a:rect l="l" t="t" r="r" b="b"/>
                  <a:pathLst>
                    <a:path w="97" h="171">
                      <a:moveTo>
                        <a:pt x="88" y="99"/>
                      </a:moveTo>
                      <a:lnTo>
                        <a:pt x="92" y="83"/>
                      </a:lnTo>
                      <a:lnTo>
                        <a:pt x="96" y="70"/>
                      </a:lnTo>
                      <a:lnTo>
                        <a:pt x="97" y="56"/>
                      </a:lnTo>
                      <a:lnTo>
                        <a:pt x="97" y="41"/>
                      </a:lnTo>
                      <a:lnTo>
                        <a:pt x="97" y="29"/>
                      </a:lnTo>
                      <a:lnTo>
                        <a:pt x="92" y="20"/>
                      </a:lnTo>
                      <a:lnTo>
                        <a:pt x="89" y="11"/>
                      </a:lnTo>
                      <a:lnTo>
                        <a:pt x="83" y="4"/>
                      </a:lnTo>
                      <a:lnTo>
                        <a:pt x="78" y="1"/>
                      </a:lnTo>
                      <a:lnTo>
                        <a:pt x="71" y="0"/>
                      </a:lnTo>
                      <a:lnTo>
                        <a:pt x="62" y="2"/>
                      </a:lnTo>
                      <a:lnTo>
                        <a:pt x="54" y="6"/>
                      </a:lnTo>
                      <a:lnTo>
                        <a:pt x="45" y="12"/>
                      </a:lnTo>
                      <a:lnTo>
                        <a:pt x="37" y="21"/>
                      </a:lnTo>
                      <a:lnTo>
                        <a:pt x="28" y="32"/>
                      </a:lnTo>
                      <a:lnTo>
                        <a:pt x="21" y="44"/>
                      </a:lnTo>
                      <a:lnTo>
                        <a:pt x="16" y="57"/>
                      </a:lnTo>
                      <a:lnTo>
                        <a:pt x="9" y="72"/>
                      </a:lnTo>
                      <a:lnTo>
                        <a:pt x="4" y="88"/>
                      </a:lnTo>
                      <a:lnTo>
                        <a:pt x="1" y="101"/>
                      </a:lnTo>
                      <a:lnTo>
                        <a:pt x="0" y="115"/>
                      </a:lnTo>
                      <a:lnTo>
                        <a:pt x="0" y="129"/>
                      </a:lnTo>
                      <a:lnTo>
                        <a:pt x="0" y="142"/>
                      </a:lnTo>
                      <a:lnTo>
                        <a:pt x="4" y="151"/>
                      </a:lnTo>
                      <a:lnTo>
                        <a:pt x="8" y="160"/>
                      </a:lnTo>
                      <a:lnTo>
                        <a:pt x="13" y="167"/>
                      </a:lnTo>
                      <a:lnTo>
                        <a:pt x="19" y="170"/>
                      </a:lnTo>
                      <a:lnTo>
                        <a:pt x="26" y="171"/>
                      </a:lnTo>
                      <a:lnTo>
                        <a:pt x="35" y="169"/>
                      </a:lnTo>
                      <a:lnTo>
                        <a:pt x="43" y="164"/>
                      </a:lnTo>
                      <a:lnTo>
                        <a:pt x="52" y="159"/>
                      </a:lnTo>
                      <a:lnTo>
                        <a:pt x="60" y="150"/>
                      </a:lnTo>
                      <a:lnTo>
                        <a:pt x="69" y="138"/>
                      </a:lnTo>
                      <a:lnTo>
                        <a:pt x="75" y="127"/>
                      </a:lnTo>
                      <a:lnTo>
                        <a:pt x="81" y="114"/>
                      </a:lnTo>
                      <a:lnTo>
                        <a:pt x="88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711520" y="4344120"/>
                <a:ext cx="876240" cy="1411920"/>
                <a:chOff x="2711520" y="4344120"/>
                <a:chExt cx="876240" cy="14119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711520" y="4406760"/>
                  <a:ext cx="755280" cy="1349280"/>
                </a:xfrm>
                <a:custGeom>
                  <a:avLst/>
                  <a:gdLst/>
                  <a:ahLst/>
                  <a:rect l="l" t="t" r="r" b="b"/>
                  <a:pathLst>
                    <a:path w="461" h="752">
                      <a:moveTo>
                        <a:pt x="383" y="305"/>
                      </a:moveTo>
                      <a:lnTo>
                        <a:pt x="364" y="267"/>
                      </a:lnTo>
                      <a:lnTo>
                        <a:pt x="344" y="230"/>
                      </a:lnTo>
                      <a:lnTo>
                        <a:pt x="322" y="193"/>
                      </a:lnTo>
                      <a:lnTo>
                        <a:pt x="299" y="161"/>
                      </a:lnTo>
                      <a:lnTo>
                        <a:pt x="277" y="130"/>
                      </a:lnTo>
                      <a:lnTo>
                        <a:pt x="253" y="102"/>
                      </a:lnTo>
                      <a:lnTo>
                        <a:pt x="228" y="76"/>
                      </a:lnTo>
                      <a:lnTo>
                        <a:pt x="204" y="54"/>
                      </a:lnTo>
                      <a:lnTo>
                        <a:pt x="181" y="35"/>
                      </a:lnTo>
                      <a:lnTo>
                        <a:pt x="157" y="21"/>
                      </a:lnTo>
                      <a:lnTo>
                        <a:pt x="135" y="9"/>
                      </a:lnTo>
                      <a:lnTo>
                        <a:pt x="114" y="4"/>
                      </a:lnTo>
                      <a:lnTo>
                        <a:pt x="94" y="0"/>
                      </a:lnTo>
                      <a:lnTo>
                        <a:pt x="76" y="1"/>
                      </a:lnTo>
                      <a:lnTo>
                        <a:pt x="57" y="7"/>
                      </a:lnTo>
                      <a:lnTo>
                        <a:pt x="43" y="16"/>
                      </a:lnTo>
                      <a:lnTo>
                        <a:pt x="30" y="30"/>
                      </a:lnTo>
                      <a:lnTo>
                        <a:pt x="19" y="48"/>
                      </a:lnTo>
                      <a:lnTo>
                        <a:pt x="10" y="68"/>
                      </a:lnTo>
                      <a:lnTo>
                        <a:pt x="6" y="92"/>
                      </a:lnTo>
                      <a:lnTo>
                        <a:pt x="1" y="120"/>
                      </a:lnTo>
                      <a:lnTo>
                        <a:pt x="0" y="149"/>
                      </a:lnTo>
                      <a:lnTo>
                        <a:pt x="1" y="182"/>
                      </a:lnTo>
                      <a:lnTo>
                        <a:pt x="6" y="217"/>
                      </a:lnTo>
                      <a:lnTo>
                        <a:pt x="12" y="253"/>
                      </a:lnTo>
                      <a:lnTo>
                        <a:pt x="21" y="291"/>
                      </a:lnTo>
                      <a:lnTo>
                        <a:pt x="31" y="330"/>
                      </a:lnTo>
                      <a:lnTo>
                        <a:pt x="45" y="370"/>
                      </a:lnTo>
                      <a:lnTo>
                        <a:pt x="61" y="408"/>
                      </a:lnTo>
                      <a:lnTo>
                        <a:pt x="78" y="447"/>
                      </a:lnTo>
                      <a:lnTo>
                        <a:pt x="97" y="486"/>
                      </a:lnTo>
                      <a:lnTo>
                        <a:pt x="116" y="523"/>
                      </a:lnTo>
                      <a:lnTo>
                        <a:pt x="139" y="559"/>
                      </a:lnTo>
                      <a:lnTo>
                        <a:pt x="161" y="592"/>
                      </a:lnTo>
                      <a:lnTo>
                        <a:pt x="184" y="623"/>
                      </a:lnTo>
                      <a:lnTo>
                        <a:pt x="208" y="651"/>
                      </a:lnTo>
                      <a:lnTo>
                        <a:pt x="233" y="677"/>
                      </a:lnTo>
                      <a:lnTo>
                        <a:pt x="256" y="698"/>
                      </a:lnTo>
                      <a:lnTo>
                        <a:pt x="280" y="717"/>
                      </a:lnTo>
                      <a:lnTo>
                        <a:pt x="304" y="732"/>
                      </a:lnTo>
                      <a:lnTo>
                        <a:pt x="325" y="743"/>
                      </a:lnTo>
                      <a:lnTo>
                        <a:pt x="347" y="749"/>
                      </a:lnTo>
                      <a:lnTo>
                        <a:pt x="367" y="752"/>
                      </a:lnTo>
                      <a:lnTo>
                        <a:pt x="385" y="751"/>
                      </a:lnTo>
                      <a:lnTo>
                        <a:pt x="403" y="746"/>
                      </a:lnTo>
                      <a:lnTo>
                        <a:pt x="418" y="737"/>
                      </a:lnTo>
                      <a:lnTo>
                        <a:pt x="430" y="723"/>
                      </a:lnTo>
                      <a:lnTo>
                        <a:pt x="441" y="705"/>
                      </a:lnTo>
                      <a:lnTo>
                        <a:pt x="450" y="685"/>
                      </a:lnTo>
                      <a:lnTo>
                        <a:pt x="455" y="661"/>
                      </a:lnTo>
                      <a:lnTo>
                        <a:pt x="459" y="633"/>
                      </a:lnTo>
                      <a:lnTo>
                        <a:pt x="461" y="603"/>
                      </a:lnTo>
                      <a:lnTo>
                        <a:pt x="459" y="571"/>
                      </a:lnTo>
                      <a:lnTo>
                        <a:pt x="455" y="536"/>
                      </a:lnTo>
                      <a:lnTo>
                        <a:pt x="448" y="499"/>
                      </a:lnTo>
                      <a:lnTo>
                        <a:pt x="439" y="462"/>
                      </a:lnTo>
                      <a:lnTo>
                        <a:pt x="429" y="423"/>
                      </a:lnTo>
                      <a:lnTo>
                        <a:pt x="415" y="383"/>
                      </a:lnTo>
                      <a:lnTo>
                        <a:pt x="400" y="345"/>
                      </a:lnTo>
                      <a:lnTo>
                        <a:pt x="383" y="305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770560" y="4344120"/>
                  <a:ext cx="817200" cy="1388520"/>
                </a:xfrm>
                <a:custGeom>
                  <a:avLst/>
                  <a:gdLst/>
                  <a:ahLst/>
                  <a:rect l="l" t="t" r="r" b="b"/>
                  <a:pathLst>
                    <a:path w="499" h="774">
                      <a:moveTo>
                        <a:pt x="0" y="52"/>
                      </a:moveTo>
                      <a:lnTo>
                        <a:pt x="41" y="48"/>
                      </a:lnTo>
                      <a:lnTo>
                        <a:pt x="80" y="48"/>
                      </a:lnTo>
                      <a:lnTo>
                        <a:pt x="119" y="76"/>
                      </a:lnTo>
                      <a:lnTo>
                        <a:pt x="169" y="111"/>
                      </a:lnTo>
                      <a:lnTo>
                        <a:pt x="197" y="138"/>
                      </a:lnTo>
                      <a:lnTo>
                        <a:pt x="225" y="171"/>
                      </a:lnTo>
                      <a:lnTo>
                        <a:pt x="257" y="226"/>
                      </a:lnTo>
                      <a:lnTo>
                        <a:pt x="285" y="275"/>
                      </a:lnTo>
                      <a:lnTo>
                        <a:pt x="317" y="330"/>
                      </a:lnTo>
                      <a:lnTo>
                        <a:pt x="340" y="381"/>
                      </a:lnTo>
                      <a:lnTo>
                        <a:pt x="370" y="455"/>
                      </a:lnTo>
                      <a:lnTo>
                        <a:pt x="388" y="527"/>
                      </a:lnTo>
                      <a:lnTo>
                        <a:pt x="403" y="587"/>
                      </a:lnTo>
                      <a:lnTo>
                        <a:pt x="411" y="643"/>
                      </a:lnTo>
                      <a:lnTo>
                        <a:pt x="403" y="708"/>
                      </a:lnTo>
                      <a:lnTo>
                        <a:pt x="395" y="743"/>
                      </a:lnTo>
                      <a:lnTo>
                        <a:pt x="373" y="774"/>
                      </a:lnTo>
                      <a:lnTo>
                        <a:pt x="479" y="711"/>
                      </a:lnTo>
                      <a:lnTo>
                        <a:pt x="497" y="660"/>
                      </a:lnTo>
                      <a:lnTo>
                        <a:pt x="499" y="617"/>
                      </a:lnTo>
                      <a:lnTo>
                        <a:pt x="491" y="559"/>
                      </a:lnTo>
                      <a:lnTo>
                        <a:pt x="484" y="488"/>
                      </a:lnTo>
                      <a:lnTo>
                        <a:pt x="462" y="408"/>
                      </a:lnTo>
                      <a:lnTo>
                        <a:pt x="436" y="342"/>
                      </a:lnTo>
                      <a:lnTo>
                        <a:pt x="399" y="259"/>
                      </a:lnTo>
                      <a:lnTo>
                        <a:pt x="346" y="166"/>
                      </a:lnTo>
                      <a:lnTo>
                        <a:pt x="290" y="99"/>
                      </a:lnTo>
                      <a:lnTo>
                        <a:pt x="232" y="40"/>
                      </a:lnTo>
                      <a:lnTo>
                        <a:pt x="202" y="23"/>
                      </a:lnTo>
                      <a:lnTo>
                        <a:pt x="161" y="5"/>
                      </a:lnTo>
                      <a:lnTo>
                        <a:pt x="141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988000" y="4950720"/>
                  <a:ext cx="181800" cy="299160"/>
                </a:xfrm>
                <a:custGeom>
                  <a:avLst/>
                  <a:gdLst/>
                  <a:ahLst/>
                  <a:rect l="l" t="t" r="r" b="b"/>
                  <a:pathLst>
                    <a:path w="111" h="167">
                      <a:moveTo>
                        <a:pt x="95" y="65"/>
                      </a:moveTo>
                      <a:lnTo>
                        <a:pt x="88" y="51"/>
                      </a:lnTo>
                      <a:lnTo>
                        <a:pt x="80" y="38"/>
                      </a:lnTo>
                      <a:lnTo>
                        <a:pt x="71" y="27"/>
                      </a:lnTo>
                      <a:lnTo>
                        <a:pt x="62" y="17"/>
                      </a:lnTo>
                      <a:lnTo>
                        <a:pt x="52" y="9"/>
                      </a:lnTo>
                      <a:lnTo>
                        <a:pt x="42" y="4"/>
                      </a:lnTo>
                      <a:lnTo>
                        <a:pt x="34" y="1"/>
                      </a:lnTo>
                      <a:lnTo>
                        <a:pt x="25" y="0"/>
                      </a:lnTo>
                      <a:lnTo>
                        <a:pt x="18" y="2"/>
                      </a:lnTo>
                      <a:lnTo>
                        <a:pt x="12" y="7"/>
                      </a:lnTo>
                      <a:lnTo>
                        <a:pt x="7" y="13"/>
                      </a:lnTo>
                      <a:lnTo>
                        <a:pt x="4" y="23"/>
                      </a:lnTo>
                      <a:lnTo>
                        <a:pt x="1" y="33"/>
                      </a:lnTo>
                      <a:lnTo>
                        <a:pt x="0" y="45"/>
                      </a:lnTo>
                      <a:lnTo>
                        <a:pt x="3" y="60"/>
                      </a:lnTo>
                      <a:lnTo>
                        <a:pt x="5" y="73"/>
                      </a:lnTo>
                      <a:lnTo>
                        <a:pt x="10" y="87"/>
                      </a:lnTo>
                      <a:lnTo>
                        <a:pt x="16" y="102"/>
                      </a:lnTo>
                      <a:lnTo>
                        <a:pt x="23" y="116"/>
                      </a:lnTo>
                      <a:lnTo>
                        <a:pt x="31" y="129"/>
                      </a:lnTo>
                      <a:lnTo>
                        <a:pt x="40" y="140"/>
                      </a:lnTo>
                      <a:lnTo>
                        <a:pt x="49" y="150"/>
                      </a:lnTo>
                      <a:lnTo>
                        <a:pt x="59" y="158"/>
                      </a:lnTo>
                      <a:lnTo>
                        <a:pt x="69" y="163"/>
                      </a:lnTo>
                      <a:lnTo>
                        <a:pt x="77" y="166"/>
                      </a:lnTo>
                      <a:lnTo>
                        <a:pt x="86" y="167"/>
                      </a:lnTo>
                      <a:lnTo>
                        <a:pt x="93" y="165"/>
                      </a:lnTo>
                      <a:lnTo>
                        <a:pt x="100" y="160"/>
                      </a:lnTo>
                      <a:lnTo>
                        <a:pt x="104" y="154"/>
                      </a:lnTo>
                      <a:lnTo>
                        <a:pt x="108" y="144"/>
                      </a:lnTo>
                      <a:lnTo>
                        <a:pt x="110" y="134"/>
                      </a:lnTo>
                      <a:lnTo>
                        <a:pt x="111" y="122"/>
                      </a:lnTo>
                      <a:lnTo>
                        <a:pt x="109" y="107"/>
                      </a:lnTo>
                      <a:lnTo>
                        <a:pt x="106" y="94"/>
                      </a:lnTo>
                      <a:lnTo>
                        <a:pt x="101" y="80"/>
                      </a:lnTo>
                      <a:lnTo>
                        <a:pt x="95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3" name=""/>
            <p:cNvSpPr/>
            <p:nvPr/>
          </p:nvSpPr>
          <p:spPr>
            <a:xfrm>
              <a:off x="4570200" y="2354040"/>
              <a:ext cx="314280" cy="335160"/>
            </a:xfrm>
            <a:custGeom>
              <a:avLst/>
              <a:gdLst/>
              <a:ahLst/>
              <a:rect l="l" t="t" r="r" b="b"/>
              <a:pathLst>
                <a:path w="192" h="187">
                  <a:moveTo>
                    <a:pt x="166" y="187"/>
                  </a:moveTo>
                  <a:lnTo>
                    <a:pt x="6" y="50"/>
                  </a:lnTo>
                  <a:lnTo>
                    <a:pt x="0" y="23"/>
                  </a:lnTo>
                  <a:lnTo>
                    <a:pt x="17" y="5"/>
                  </a:lnTo>
                  <a:lnTo>
                    <a:pt x="44" y="0"/>
                  </a:lnTo>
                  <a:lnTo>
                    <a:pt x="192" y="166"/>
                  </a:lnTo>
                  <a:lnTo>
                    <a:pt x="188" y="187"/>
                  </a:lnTo>
                  <a:lnTo>
                    <a:pt x="166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721320" y="1047600"/>
              <a:ext cx="1821600" cy="1076040"/>
              <a:chOff x="3721320" y="1047600"/>
              <a:chExt cx="1821600" cy="1076040"/>
            </a:xfrm>
          </p:grpSpPr>
          <p:sp>
            <p:nvSpPr>
              <p:cNvPr id="335" name=""/>
              <p:cNvSpPr/>
              <p:nvPr/>
            </p:nvSpPr>
            <p:spPr>
              <a:xfrm>
                <a:off x="4153680" y="1137240"/>
                <a:ext cx="275040" cy="369360"/>
              </a:xfrm>
              <a:custGeom>
                <a:avLst/>
                <a:gdLst/>
                <a:ahLst/>
                <a:rect l="l" t="t" r="r" b="b"/>
                <a:pathLst>
                  <a:path w="168" h="206">
                    <a:moveTo>
                      <a:pt x="137" y="203"/>
                    </a:moveTo>
                    <a:lnTo>
                      <a:pt x="2" y="43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47" y="0"/>
                    </a:lnTo>
                    <a:lnTo>
                      <a:pt x="168" y="186"/>
                    </a:lnTo>
                    <a:lnTo>
                      <a:pt x="160" y="206"/>
                    </a:lnTo>
                    <a:lnTo>
                      <a:pt x="137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62000" y="1515960"/>
                <a:ext cx="404640" cy="179280"/>
              </a:xfrm>
              <a:custGeom>
                <a:avLst/>
                <a:gdLst/>
                <a:ahLst/>
                <a:rect l="l" t="t" r="r" b="b"/>
                <a:pathLst>
                  <a:path w="247" h="100">
                    <a:moveTo>
                      <a:pt x="226" y="100"/>
                    </a:moveTo>
                    <a:lnTo>
                      <a:pt x="21" y="62"/>
                    </a:lnTo>
                    <a:lnTo>
                      <a:pt x="0" y="42"/>
                    </a:lnTo>
                    <a:lnTo>
                      <a:pt x="6" y="17"/>
                    </a:lnTo>
                    <a:lnTo>
                      <a:pt x="27" y="0"/>
                    </a:lnTo>
                    <a:lnTo>
                      <a:pt x="239" y="70"/>
                    </a:lnTo>
                    <a:lnTo>
                      <a:pt x="247" y="89"/>
                    </a:lnTo>
                    <a:lnTo>
                      <a:pt x="22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51440" y="1250640"/>
                <a:ext cx="353880" cy="308160"/>
              </a:xfrm>
              <a:custGeom>
                <a:avLst/>
                <a:gdLst/>
                <a:ahLst/>
                <a:rect l="l" t="t" r="r" b="b"/>
                <a:pathLst>
                  <a:path w="216" h="172">
                    <a:moveTo>
                      <a:pt x="5" y="140"/>
                    </a:moveTo>
                    <a:lnTo>
                      <a:pt x="173" y="1"/>
                    </a:lnTo>
                    <a:lnTo>
                      <a:pt x="201" y="0"/>
                    </a:lnTo>
                    <a:lnTo>
                      <a:pt x="216" y="20"/>
                    </a:lnTo>
                    <a:lnTo>
                      <a:pt x="215" y="50"/>
                    </a:lnTo>
                    <a:lnTo>
                      <a:pt x="20" y="172"/>
                    </a:lnTo>
                    <a:lnTo>
                      <a:pt x="0" y="164"/>
                    </a:lnTo>
                    <a:lnTo>
                      <a:pt x="5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36840" y="1813680"/>
                <a:ext cx="406080" cy="157680"/>
              </a:xfrm>
              <a:custGeom>
                <a:avLst/>
                <a:gdLst/>
                <a:ahLst/>
                <a:rect l="l" t="t" r="r" b="b"/>
                <a:pathLst>
                  <a:path w="248" h="88">
                    <a:moveTo>
                      <a:pt x="14" y="55"/>
                    </a:moveTo>
                    <a:lnTo>
                      <a:pt x="215" y="0"/>
                    </a:lnTo>
                    <a:lnTo>
                      <a:pt x="242" y="10"/>
                    </a:lnTo>
                    <a:lnTo>
                      <a:pt x="248" y="34"/>
                    </a:lnTo>
                    <a:lnTo>
                      <a:pt x="235" y="59"/>
                    </a:lnTo>
                    <a:lnTo>
                      <a:pt x="16" y="88"/>
                    </a:lnTo>
                    <a:lnTo>
                      <a:pt x="0" y="73"/>
                    </a:ln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1320" y="1971360"/>
                <a:ext cx="409320" cy="152280"/>
              </a:xfrm>
              <a:custGeom>
                <a:avLst/>
                <a:gdLst/>
                <a:ahLst/>
                <a:rect l="l" t="t" r="r" b="b"/>
                <a:pathLst>
                  <a:path w="250" h="85">
                    <a:moveTo>
                      <a:pt x="235" y="33"/>
                    </a:moveTo>
                    <a:lnTo>
                      <a:pt x="33" y="85"/>
                    </a:lnTo>
                    <a:lnTo>
                      <a:pt x="6" y="76"/>
                    </a:lnTo>
                    <a:lnTo>
                      <a:pt x="0" y="51"/>
                    </a:lnTo>
                    <a:lnTo>
                      <a:pt x="13" y="26"/>
                    </a:lnTo>
                    <a:lnTo>
                      <a:pt x="234" y="0"/>
                    </a:lnTo>
                    <a:lnTo>
                      <a:pt x="250" y="15"/>
                    </a:lnTo>
                    <a:lnTo>
                      <a:pt x="23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59840" y="1047600"/>
                <a:ext cx="111240" cy="450360"/>
              </a:xfrm>
              <a:custGeom>
                <a:avLst/>
                <a:gdLst/>
                <a:ahLst/>
                <a:rect l="l" t="t" r="r" b="b"/>
                <a:pathLst>
                  <a:path w="68" h="251">
                    <a:moveTo>
                      <a:pt x="0" y="231"/>
                    </a:moveTo>
                    <a:lnTo>
                      <a:pt x="6" y="24"/>
                    </a:lnTo>
                    <a:lnTo>
                      <a:pt x="21" y="0"/>
                    </a:lnTo>
                    <a:lnTo>
                      <a:pt x="47" y="1"/>
                    </a:lnTo>
                    <a:lnTo>
                      <a:pt x="68" y="20"/>
                    </a:lnTo>
                    <a:lnTo>
                      <a:pt x="32" y="239"/>
                    </a:lnTo>
                    <a:lnTo>
                      <a:pt x="12" y="251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Jak si vést úspěšně ?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ystém a pravid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amžité jedn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bejisté vystup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vála je mocn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Autorita jako celoživotní pro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áření a upevňování autority je celoživotním proces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pokládá vzdělávání v oboru, celkový rozhled a angažov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ůžete popsat někoho z Vašeho okolí kdo má autoritu? A proč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0920" y="2057040"/>
            <a:ext cx="784692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ůžete popsat někoho z Vašeho okolí , který autoritu naopak nemá?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roč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Obsahová neujasněno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05740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iroká a komplexní obla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pretace z hlediska pozic různých discipl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existuje jednotné vyme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arakteristický rys moderní do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058160" y="4941720"/>
            <a:ext cx="15620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468360" y="12600"/>
            <a:ext cx="9612360" cy="6845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2781000"/>
            <a:ext cx="11494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49360"/>
            <a:ext cx="1440000" cy="4334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5589720"/>
            <a:ext cx="1152720" cy="50328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3645000"/>
            <a:ext cx="1224000" cy="647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877000"/>
            <a:ext cx="1979640" cy="67464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obo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413000"/>
            <a:ext cx="2376360" cy="64908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ni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67640" y="4076640"/>
            <a:ext cx="1476360" cy="72072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áze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96000" y="6165720"/>
            <a:ext cx="1476360" cy="57636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5589720"/>
            <a:ext cx="1079640" cy="50328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2349360"/>
            <a:ext cx="2197080" cy="50508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ědno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0"/>
            <a:ext cx="4859280" cy="981000"/>
          </a:xfrm>
          <a:prstGeom prst="ellipse">
            <a:avLst/>
          </a:prstGeom>
          <a:solidFill>
            <a:srgbClr val="b1bb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ouvisející pojm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83640" y="115920"/>
            <a:ext cx="1260360" cy="6742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Vymezení pojmu AUTORI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05740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RITA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podpora, záruka, jistota, spolehlivost, hodnověrnos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CTO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napomahatel, podpůrce, vzor, příklad, předchůd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GÓ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podporovat ve vzrůstu, zvětšovati, rozmnožovati, zvelebova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Neoprávněné spojení autority s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silí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ářství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4743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ynony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iv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in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7c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pete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96000" y="4581360"/>
            <a:ext cx="2808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5331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Definice autority dle Kučerov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199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20574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a je svou podstatou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ntropologická konstan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vytvář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ravidl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kupinového života,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rganizační řá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kupiny, spolupodmiňuje je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biologické přežit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rozvoj jedinc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ředávání zkušeností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5084640"/>
            <a:ext cx="27687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Členění autority a její typologie </a:t>
            </a:r>
            <a:br>
              <a:rPr sz="4000"/>
            </a:b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dle zvolených kritérií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748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genet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řirozená, získan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ociál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sobní, poziční, funkční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ování sociálního okol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kutečná, zdánliv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ociální prestiž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ální, neformál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ositele v dějinném vývoj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rodičovská, panovnická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7c5f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alší členě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tatutární, charismatická, odborná, morál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6:11:58Z</dcterms:created>
  <dc:creator>Tereza - Vacínová</dc:creator>
  <dc:description/>
  <cp:keywords/>
  <dc:language>en-US</dc:language>
  <cp:lastModifiedBy>lesak</cp:lastModifiedBy>
  <dcterms:modified xsi:type="dcterms:W3CDTF">2009-08-10T04:40:52Z</dcterms:modified>
  <cp:revision>14</cp:revision>
  <dc:subject/>
  <dc:title>AUTORITA UČITE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29</vt:lpwstr>
  </property>
</Properties>
</file>