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9.png" ContentType="image/png"/>
  <Override PartName="/ppt/media/image14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0DE-2D67-43D6-BD8D-9F1A65B5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D93-A043-4110-8C52-E61382A5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457-9607-4D67-BF69-9BF4155F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81A-550C-4599-BB05-9BADA84E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1A9-B8A3-48C4-ADDE-30F0B53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454-8152-41F9-ACCA-CE5996F9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8D9-960D-4B2B-9301-802CF3E9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B22-0AED-4812-9AEB-09DF5857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9EF-F2BB-442B-9EFF-ECB9087B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FCD-548D-4840-A729-EA33CEEE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2EF-1D8E-4C0A-8386-E569A99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975-2457-4359-B149-B11267AB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556F-C052-49FE-8B92-CF058D8E1C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http://www.lesniznalec.cz/" TargetMode="External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2890-6FEA-4276-AC86-0DABE1A2E08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3336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TIMALIZACE HOSPODAŘENÍ LESNÍHO PODNIKU</a:t>
            </a:r>
            <a:r>
              <a:rPr b="1" lang="cs-CZ" sz="31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3100"/>
            </a:br>
            <a:br>
              <a:rPr sz="3100"/>
            </a:br>
            <a:r>
              <a:rPr b="1" lang="cs-CZ" sz="3100" spc="-1" strike="noStrike">
                <a:solidFill>
                  <a:srgbClr val="3333cc"/>
                </a:solidFill>
                <a:latin typeface="Arial"/>
              </a:rPr>
              <a:t>MOŽNOSTI DIVERZIFIKACE AKTIVIT LESNÍHO PODNIK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724280"/>
            <a:ext cx="6408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iří Matějíč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0920" y="1364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50920" y="404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iv trendů EU na hospodaření v lesích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7D35-7285-4869-B7F3-7C9E3A111D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vropské trendy v LH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ní dlouhodobé směry v LH jsou již formulová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rvale udržitelné hospodaření v lesích (TUHL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 trendem k přírodě blízkému hospoda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konomická životaschop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dlouhodobá konkurenceschopnost lesních podniků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rezoluce V2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ez ziskového LH 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UHL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[ekon.cíl FA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ozvoj venko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aložený na využití lesního potenciálu (kapitálu) – nové lesnické výrobky, zboží a služby, biomasa, mobilizace produk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[sociální.cíl FA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ukty s nízkým stupněm přidané hodnoty ztrácejí podíly na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Evropě dřeva více naroste než se vytěž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růstají požadavky společnosti na ekologické a rekreační služby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oupající trend ekologické poptávky je nesporn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ce, informace, znalosti, komun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167A-544C-4614-8E11-5B99B0BF59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aktory úspěšnosti produktu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91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jem vlastníka o nové možnosti příj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Analýza potenciál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oloha a krása lesního území a jeho dosažitelnost, jméno a image vlastníka lesa, vybavení, know-how, motivace  a profesionalita personálu, různorodost nabídky) a 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analýza tržní poptá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nalýza možných konflikt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ého produ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racování přesvědčivé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elkové konce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Příprava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využívání všech možností, které se naskytují pro obchod – trad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ámcové právní podmí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a nabídka produktu, jeho exkluz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BC1E-11E2-4604-9978-A063F9EE597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ktory úspěšnosti produktu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ientace na zákazníka (pohostinnost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a, nové prožitky, speciální prostředí, atraktivita kraj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jení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eorie (know-how) s prax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rketing produ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vytvoření obchodní značky, její registrace, kalkulace a diferenciace ceny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a diskuse s vlastníky l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elesnickými subjek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např. s turistickými informačními středisky, s obcemi, úřady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hod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86CB-4610-415F-9BB3-FF6984BCF49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aktory úspěšnosti produktu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915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formální kontakty, znám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kuše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rdošíj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 financování (vlastní zdroje,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eřejné podp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sponzorování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oba soukromoprávní smlouvy s uživateli   produ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skování při kombinaci s jinými službami (produktový m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ůsob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prezentace produ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rofesní práce s  tiskem – inzeráty, internet, práce s veřejnos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pělivost s akceptací produktu veřejností (trvá to i několik 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6349-D8EF-4B06-B2F6-A6BC8506D8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aktory úspěšnosti produktu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915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dentifikace všech rozhodujících bodů,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asnění požadavků na služb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zabránit chybným investicím a neúspě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é sítě (např. sdružení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á partnerství (např. s úřady a jinými podni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2E8-D400-493E-A9A8-52554A0FB4D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aktory úspěšnosti produktu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915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ové trh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ro vlastníky lesa (uvnitř i vně oblasti obchodování se dřev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pěšnost není dána podporou prostřednictvím politiky a s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edukcí veřejně financované slabé konkure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á zabraňuje začlenění jiných funkcí lesa do hodnotového systému lesních podni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sný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hranič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zi právem na volný vstup do lesa a jiným využitím volného času ve všech druzích vlastnictví 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chování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nikatelské svobod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bouráním byrokracie a přeregulování trh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7593-6646-4921-B6E5-D80AF0BDA1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aktory úspěšnosti produktu - 6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říklad z Norska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edpoklad úspěch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a vytváření hodnot v budoucnosti, tj. zvýšení obchodní čin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racování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plán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myslivecké a rybářské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oření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působů spoluprá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lastníků le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ložení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ružstev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vývoj a výrobu produ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(nejdůležitější součástí vývoje produktů =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vytvoření přidané hodnoty k „základním produktů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tění kontroly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kvalit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orientace na zákazn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esionální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áce s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lád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inovačními nadacemi, profesionálními partnery a s celou řadou odborníků v oblasti turist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076E-F0EA-44F0-AE01-D4E96D82B2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3628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Úroveň originalit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determinantem pr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spě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dnikatelského plá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de to vyžadov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aje na akvizici výrobních fak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ální zna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chopnost řízení výrobn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198F-0B32-41BC-B2C8-56498352D3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LEŽITÉ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uť začí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chtíti-moci-umě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čít něco postupně měn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znát-používat-mě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VĚTŠÍ DIVERZIFIKACE PŘÍJMŮ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LESNÍCH PODNIKŮ</a:t>
            </a:r>
            <a:r>
              <a:rPr b="0" i="1" lang="cs-CZ" sz="1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soukr.-obecní-stát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spěvek k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voji venkova (region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ogram rozvoje venkova (PRV)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a II  - neproduktivní investice v lesích (rekreační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a III - diverzifikace činností nezemědělské povahy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kládání mikropodniků, cestovní ru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a IV- Leader (místní rozvojové strategie, MAS, projekt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ác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9E56-47F5-4ABE-9FD1-54ED0C61DE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padové studie ze zahranič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lesniznalec.c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, Internalizace externa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F6EF-9AB2-400A-A797-269003FDF3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Práce na realizačním projektu KA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v roce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2050920" y="62064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lementa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LP 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roku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3578-88D1-495F-927C-F694139B418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Evropské trendy v LH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CPF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, Vídeň 2003 – rezoluce č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konomická životaschopnost je klíčovým pilířem TUH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má zásadní význam pro zachování lesů a jejich víceúčelových funkcí pro spol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CF84-D724-4EFE-A0D9-C0752A3317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Časový a věcný postup prací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ýchodis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rok 2009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rozpracování schváleného usnesení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   vlády ČR č. 1221 z 1. října 2008 o NLP II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   na období do roku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= </a:t>
            </a:r>
            <a:r>
              <a:rPr b="1" lang="cs-CZ" sz="2800" spc="-1" strike="noStrike" u="sng">
                <a:solidFill>
                  <a:srgbClr val="cc3300"/>
                </a:solidFill>
                <a:uFillTx/>
                <a:latin typeface="Arial"/>
              </a:rPr>
              <a:t>téměř nulová znalostní a informační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1" lang="cs-CZ" sz="2800" spc="-1" strike="noStrike" u="sng">
                <a:solidFill>
                  <a:srgbClr val="cc3300"/>
                </a:solidFill>
                <a:uFillTx/>
                <a:latin typeface="Arial"/>
              </a:rPr>
              <a:t>zákla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červen 2009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úvodní koncepční materiá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určený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připomínkám pro členy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vodní představení tématu KA3 před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Koordinační radou NLP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uben 2010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– projednání </a:t>
            </a:r>
            <a:r>
              <a:rPr b="1" lang="cs-CZ" sz="2800" spc="-1" strike="noStrike" u="sng">
                <a:solidFill>
                  <a:srgbClr val="cc3300"/>
                </a:solidFill>
                <a:uFillTx/>
                <a:latin typeface="Arial"/>
              </a:rPr>
              <a:t>1. verze realizačníh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2800" spc="-1" strike="noStrike" u="sng">
                <a:solidFill>
                  <a:srgbClr val="cc3300"/>
                </a:solidFill>
                <a:uFillTx/>
                <a:latin typeface="Arial"/>
              </a:rPr>
              <a:t>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a K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BCDF-1F75-4810-8FC0-0A30FADDCF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Časový a věcný postup prací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ěžiště prací v roce 20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= </a:t>
            </a:r>
            <a:r>
              <a:rPr b="1" lang="cs-CZ" sz="2800" spc="-1" strike="noStrike" u="sng">
                <a:solidFill>
                  <a:srgbClr val="cc3300"/>
                </a:solidFill>
                <a:uFillTx/>
                <a:latin typeface="Arial"/>
              </a:rPr>
              <a:t>dokončení průběžného realizačního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cs-CZ" sz="2800" spc="-1" strike="noStrike" u="sng">
                <a:solidFill>
                  <a:srgbClr val="cc3300"/>
                </a:solidFill>
                <a:uFillTx/>
                <a:latin typeface="Arial"/>
              </a:rPr>
              <a:t>projektu 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věten 201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projedná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alizačního projektu 01 v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ordinační radě NLP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to-podzim 2010 – vyhodnocení písemn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pomí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inec 2010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– zpracování </a:t>
            </a:r>
            <a:r>
              <a:rPr b="1" lang="cs-CZ" sz="2800" spc="-1" strike="noStrike" u="sng">
                <a:solidFill>
                  <a:srgbClr val="cc3300"/>
                </a:solidFill>
                <a:uFillTx/>
                <a:latin typeface="Arial"/>
              </a:rPr>
              <a:t>návrhu realizačníh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800" spc="-1" strike="noStrike" u="sng">
                <a:solidFill>
                  <a:srgbClr val="cc3300"/>
                </a:solidFill>
                <a:uFillTx/>
                <a:latin typeface="Arial"/>
              </a:rPr>
              <a:t>projektu 0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umístění na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B295-3ACF-46EF-BD77-A44B277681E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acovní setkání expertní skupi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MZe, 24.2.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cc3300"/>
                </a:solidFill>
                <a:uFillTx/>
                <a:latin typeface="Arial"/>
              </a:rPr>
              <a:t>Závě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dosavadní zkratky RES (rekreační a environmentální služby) na zkratku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LNKS (lesnické nedřevní komodity a služb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utnost 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definování požadavků společnosti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na veřejné (státní) i soukromé les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 účelem zabránění nerovností na trhu při produkci stejných komodit a služeb pro spol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opatření 3.2 dosavadní omezení váza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valitu podzemních vod rozšířit i na jímání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vrchové pitné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C2F5-169A-4AD9-9295-2C475633D06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Arial"/>
              </a:rPr>
              <a:t>NÁVRH DALŠÍHO PRACOVNÍHO POSTUP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89FE-0772-42FD-B569-80E540BBE0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řeba systematického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sociálně ekonomického výzkum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např. zmapování domácí situace ohledně komerčního zhodnocení nedřevních užitků či služeb u lesních podniků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ujícím a možná jediným východiskem pro směrování dalších prací v současnosti 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na řešení tohoto problému v zahranič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jeho analogické uplatnění v našich podmínká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hledem k 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existenci naší vlastní výzkumné základ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vlastních poznatků na toto téma je pravděpodobně nejefektivnějším způsobem dalšího postupu vpřed (např. u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kosystémových plate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d.)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ransfer poznatků ze zahranič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7086-512F-4A41-9821-5540ED5810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nou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roblematiku musí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její věcnou a časovou náročnost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řešit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kvalifikované týmy odbor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jich systematická práce nemůže být nahrazena prací po večerech několika již nyní vytížených jedinc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3F1E-E81A-4761-8B68-026B5B0F6A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ostup prac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mimo možnosti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řijetí </a:t>
            </a:r>
            <a:r>
              <a:rPr b="1" lang="cs-CZ" sz="2800" spc="-1" strike="noStrike" u="sng">
                <a:solidFill>
                  <a:srgbClr val="0000ff"/>
                </a:solidFill>
                <a:uFillTx/>
                <a:latin typeface="Arial"/>
              </a:rPr>
              <a:t>nové ekonomické strategie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 pro transformaci LH na významného dodavatele lesnických služeb pro společnos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nová lesnická polit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2)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Zpracování </a:t>
            </a:r>
            <a:r>
              <a:rPr b="1" lang="cs-CZ" sz="2800" spc="-1" strike="noStrike" u="sng">
                <a:solidFill>
                  <a:srgbClr val="0000ff"/>
                </a:solidFill>
                <a:uFillTx/>
                <a:latin typeface="Arial"/>
              </a:rPr>
              <a:t>odvětvové koncep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ržní uplatnění L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3)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ypracování </a:t>
            </a:r>
            <a:r>
              <a:rPr b="1" lang="cs-CZ" sz="2800" spc="-1" strike="noStrike" u="sng">
                <a:solidFill>
                  <a:srgbClr val="0000ff"/>
                </a:solidFill>
                <a:uFillTx/>
                <a:latin typeface="Arial"/>
              </a:rPr>
              <a:t>rámcových podmínek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 a</a:t>
            </a:r>
            <a:r>
              <a:rPr b="0" lang="cs-CZ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ředpokla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rávních, finančních, informačních, instutucionální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4)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osílení </a:t>
            </a:r>
            <a:r>
              <a:rPr b="1" lang="cs-CZ" sz="2800" spc="-1" strike="noStrike" u="sng">
                <a:solidFill>
                  <a:srgbClr val="0000ff"/>
                </a:solidFill>
                <a:uFillTx/>
                <a:latin typeface="Arial"/>
              </a:rPr>
              <a:t>inovačních aktivit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 při tvorbě nových lesnických produktů a služ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DE4D-3C6D-4920-A5CF-0CBA4F9D758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A62A-5B43-4089-8368-01C946308D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osud </a:t>
            </a:r>
            <a:r>
              <a:rPr b="1" lang="cs-CZ" sz="3500" spc="-1" strike="noStrike">
                <a:solidFill>
                  <a:srgbClr val="000000"/>
                </a:solidFill>
                <a:latin typeface="Arial"/>
              </a:rPr>
              <a:t>žádný </a:t>
            </a: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viditelný </a:t>
            </a:r>
            <a:r>
              <a:rPr b="1" lang="cs-CZ" sz="3500" spc="-1" strike="noStrike" u="sng">
                <a:solidFill>
                  <a:srgbClr val="000000"/>
                </a:solidFill>
                <a:uFillTx/>
                <a:latin typeface="Arial"/>
              </a:rPr>
              <a:t>pohyb na poli lesnické politiky</a:t>
            </a: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 ani žádné konkrétní kroky ze strany odvětví směrem ke komerčnímu uplatnění lesnických služeb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nová orientace lesnické politi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ozšíření hosp. činnosti u LH o tržní služby)</a:t>
            </a: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 v roce 2011 v připravovaných </a:t>
            </a:r>
            <a:r>
              <a:rPr b="1" lang="cs-CZ" sz="3500" spc="-1" strike="noStrike" u="sng">
                <a:solidFill>
                  <a:srgbClr val="ff0000"/>
                </a:solidFill>
                <a:uFillTx/>
                <a:latin typeface="Arial"/>
              </a:rPr>
              <a:t>Zásadách lesnické politi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iz programové prohlášení vlády z roku 2010)</a:t>
            </a: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168A-8578-4CF8-8254-A6C7AAD8169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8892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 existence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stabilního řešitelského týmu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a jeho financová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hovořit o nějaké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alším postupu pra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apř.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zpracování koncepce řeš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vorba znalostní databáze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(informace z dotazníkových průzkumů, ze zahraničí, informace z výzkumu k vývoji nových produktů u lesních podniků, hodnocení metodik, nový informační systém, podklady pro vzdělávání atd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zadání právních analýz a jejich vyhodnocení, realizace legislativních úpra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íprava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oduktové nabídky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hledání odbytových cest a smluvních konceptů pro přístup k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zpracování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onceptu ekosystémových plateb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(vytvoření motivačních-finančních mechanismů, nejvhodnějšího způsobu platby za každý jednotlivý produk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3053-628E-44C6-B818-3D1397A4B8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konkurenceschop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snictví je konkurenceschopné, když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ziskové a založené na tržních výnos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skytuje produkty požadované spotřebit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e může dynamicky přizpůsobovat tržním změn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pora příjmů vlastníků lesa (či farmářů) ze strany státu může pomoci vlastníkům přežít, ale takov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ežití není založeno na konkurence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F5FF-5054-4E5D-A629-01BAD5A13E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řijmou se základní doporučení ?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?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O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sí bý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álný odra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větvové lesnické politice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rmulaci strategie dosažení cí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onkrétních opatřeních kompetentních orgánů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e využití všech nástrojů lesnické politik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zapojení a ve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ýsledcích výzkum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e struktuře úkolů a jejich financování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CÍLOVÝ STAV =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ětší diverzifikace příjm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lesních podniků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komerční využití dosud neobchodovatelných výrobků a služ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výšení konkurenceschopnosti lesnictv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v souladu s cílem ekonomického pilí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CEA2-1EAE-4B18-9B4F-A7CFFD2A1A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3999-4823-4676-90C2-CBD0DA9BED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VERZIFIKACE AKTIV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15D8-1C8E-4310-999B-C39A701EEC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iverzifikac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- téma jinými slo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  hledá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ových trh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ových zdrojů příj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ržní uplatnění vybraných rekreačních a environmentálních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služeb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vádění tzv. </a:t>
            </a:r>
            <a:r>
              <a:rPr b="1" i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ekosystémových plateb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členění lesnických služeb do hospodářské činnosti lesních podniků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internalizace lesnických external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rční zhodnocení (tržní realizace)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lesnických výrobků, zboží a služeb (LNKS) na smluvním princi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odnikán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 lesnickými služb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íření hospodářské činnosti lesnického sektoru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mimo oblast produkce dřeva (mimo oblast PČ a T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BE23-0E4C-4BE3-AFB6-A9D3632AF3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915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edání nových,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tabilnějších zdrojů příjm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hledání příležitostí k diverzifik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ůstový potenciál této 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ová strategie budování konkurenční výhody lesních podni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PRV, osa III – Kvalita života ve venkovských oblastech a diverzifikace hospodářství venk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7563-3C08-4364-8FAE-4492AF5326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lesnictví mohou být uplatně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hlavní přístup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 diverzifikační strateg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diverzifikaci zdrojů peněžních příjm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ro vlastníky l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možnosti využití existujícíh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kapitálu (produkčních faktorů) v jiných obchodních oblaste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ž jsou aktivity konvenčního les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zdůrazně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lastníka lesa jako podnika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B786-0ECF-431A-8CC9-979125CDCD4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Inovát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o objevu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kombinac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odukt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výrobní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eto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rh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ovační přístup založený na skutečnosti, ž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edchozí zkušenost nemůže být přenes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krétní forma diverzifikace musí být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izpůsobe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pecifickým podmínkám v závislosti na místě, času a dalších realizačních okoln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Jednoduché kopírování projektů nevede k úspěchu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8F0D-4B5D-417B-B7B8-673D7A2F08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912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eneralizovat podnikatelské strategické přístupy je možné jen tehdy, když zjednodušíme real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nikatelské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aktivit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bezprostředně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spojené s PČ a T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vidět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lastníky lesa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 jak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dnikatel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jsou ochotni u identifikovaných příležitostí usilovat 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ax. zis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 podnikatelských aktivi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09D9-E577-4182-B2C1-8FFE150538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167472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Kdo je podle EU podnik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dle nové definice malých a středních podniků - MSP (účinnost od 1.1.2005) je podnik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každý subjekt vykonávající hospodářskou činnost, bez ohledu na jeho právní formu“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 podniky lze považ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soby samostatně výdělečně činn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dinné fi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artnerství a sdružení pravidelně vykonávající hospodářskou čin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11280" y="47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95280" y="62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Lesní hospodářství = 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lesní podni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93C8-DFC2-4AAA-ACD1-692F7C949F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3336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OPTIMALIZAC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HOSPODAŘENÍ LESNÍHO PODNIKU</a:t>
            </a:r>
            <a:r>
              <a:rPr b="1" lang="cs-CZ" sz="31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3100"/>
            </a:br>
            <a:br>
              <a:rPr sz="3100"/>
            </a:br>
            <a:r>
              <a:rPr b="1" lang="cs-CZ" sz="3100" spc="-1" strike="noStrike">
                <a:solidFill>
                  <a:srgbClr val="3333cc"/>
                </a:solidFill>
                <a:latin typeface="Arial"/>
              </a:rPr>
              <a:t>MOŽNOSTI </a:t>
            </a:r>
            <a:r>
              <a:rPr b="1" lang="cs-CZ" sz="3100" spc="-1" strike="noStrike" u="sng">
                <a:solidFill>
                  <a:srgbClr val="ff0000"/>
                </a:solidFill>
                <a:uFillTx/>
                <a:latin typeface="Arial"/>
              </a:rPr>
              <a:t>DIVERZIFIKACE</a:t>
            </a:r>
            <a:r>
              <a:rPr b="1" lang="cs-CZ" sz="3100" spc="-1" strike="noStrike">
                <a:solidFill>
                  <a:srgbClr val="3333cc"/>
                </a:solidFill>
                <a:latin typeface="Arial"/>
              </a:rPr>
              <a:t> AKTIVIT LESNÍHO PODNIK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4724280"/>
            <a:ext cx="6408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iří Matějíč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55640" y="623736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Seminář pro privátní poradce v lesnictví, Sněžné (Daňkovice), 13. – 14. dubna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0920" y="1364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50920" y="404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iv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trendů EU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na hospodaření v lesích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932C-2FB8-4A75-93B0-1E6A9462A04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ifikace podn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98800"/>
                <a:gridCol w="2016000"/>
                <a:gridCol w="2057400"/>
                <a:gridCol w="2057400"/>
              </a:tblGrid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e podni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zaměstnanc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 obrat n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 bilanční su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řed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il. 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mil. 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l. 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l. 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k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mil. 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mil. 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54BF-6064-40FA-AB33-2ED766C02E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HARAKTER PROBL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současný sta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282F-030F-4E54-95E9-D258BA750B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Ekonomika LH stojí jen na 1 výrobku, tj. na surovém dří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Potřeba změnit ekonomickou strukturu LH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změnit strukturu příjmů L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zornost zaměřit k tržnímu uplatnění nových lesnických výrobků a služe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ke tvorbě nových pří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0E29-608F-4F83-8AFA-4A7CF17F45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spora nákladů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nebude do budoucna stač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existuje žádný racionální důvod, aby se lesní podniky fixovaly na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jediný produk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Extrémní kolísání cen na trzích se surovým dřívím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a potřeba nalezení dodatečných stabilnějších zdrojů příjmů lesních podni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033A-AE66-49B1-AC11-C6AA231E26F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20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my za surové dřev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my za kompenzaci új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my z veřejných podp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Odvody do státního rozpočtu (da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my z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lesnické produkty (zboží a služb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jmy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v obchodních oblastech nesoucích 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isky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08FF-E8BD-48D9-A900-A7B05B0368D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Řeše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trhy se dřev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e.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Je to jen dílčí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trhy s ekologickými a rekreačními službam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no.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LH získá ekonomický prostor 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jedn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o tyto služby poptává, mohl by k nim bez odpovídající nabídky získat 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přístup pouze politickou cestou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A038-8E59-4C48-AED4-DAF150559A3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lužby poskytované lese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např.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utání uhlíku, ochrana biodiverzity, vody a půd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j.), ať již pro širokou veřejnost či jenom pro určité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ájmové skup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é z těchto lesnických služeb mají užitek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jsou dosud 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bezplat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to však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určitý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ruh bezdůvodného obohacen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, tedy plnění bez právního důvod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víc podle ekonomie životního prostřed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poruje jakákoliv bezplatná spotřeba nadměrné užívá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a nedostatečné zásobování (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eexistuje žádná výrobní motiv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35A9-B817-44E1-AC70-C5503C7A86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TÉMA ZÁSADNÍHO LESOPOLITICKÉHO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CHARAKTERU pro celé L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ytvoření rámcových podmínek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pro podnikání s lesnickými služb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ásadní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měna myšle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vlastníků lesa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měna stávajícího ch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ovační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odnikatelské iniciati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VČLENĚNÍ (INTERNALIZACE) LESNICKÝ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DO EKONOMICKÉ STRUKTURY LESNICKÉHO SEKT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jako prvek strategie diverz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B7BE-E9E4-4DE9-A690-A563F5AE0C6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erční zhodnocení nových lesnických výrobků a služeb je důležitý prvek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strategie diverzifikace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innosti lesních podnik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přechod lesního hospodářství z poskytovatele dřevní suroviny také 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0000"/>
                </a:solidFill>
                <a:uFillTx/>
                <a:latin typeface="Arial"/>
              </a:rPr>
              <a:t>významného dodavatele placených služeb</a:t>
            </a:r>
            <a:r>
              <a:rPr b="0" lang="cs-CZ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pro společnost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FAD1-F7A3-49E2-BC95-2C677192E8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jít od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auky o funkcích lesa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Arial"/>
              </a:rPr>
              <a:t>NAUCE O PRODUKTECH LES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i="1" lang="cs-CZ" sz="1200" spc="-1" strike="noStrike">
                <a:solidFill>
                  <a:srgbClr val="cc3300"/>
                </a:solidFill>
                <a:latin typeface="Arial"/>
              </a:rPr>
              <a:t>(produkty a služby)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ť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funkce nejsou produkt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!!!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luž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usí být definovány jako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rodukt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nikoliv jak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funkc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, jinak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mají na trhu c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pracov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ržní produktovou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nabídku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(produktový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cept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společenské požada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0D2C-2EC8-487D-B7A2-1C06D52CD8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RE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AF9A-D317-45DC-B2E0-C65EF20499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emizace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funkcí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kytování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zboží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cs-CZ" sz="2800" spc="-1" strike="noStrike" u="sng">
                <a:solidFill>
                  <a:srgbClr val="3333cc"/>
                </a:solidFill>
                <a:uFillTx/>
                <a:latin typeface="Arial"/>
              </a:rPr>
              <a:t>služe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žitky z lesa, soukromé a veřejné statk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Matějíček 2001, 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24000" y="1413000"/>
          <a:ext cx="849780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84978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Oval 4"/>
          <p:cNvSpPr/>
          <p:nvPr/>
        </p:nvSpPr>
        <p:spPr>
          <a:xfrm>
            <a:off x="250920" y="1413000"/>
            <a:ext cx="1296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324000" y="4941720"/>
            <a:ext cx="863280" cy="432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 rot="460800">
            <a:off x="1118880" y="4954320"/>
            <a:ext cx="3960720" cy="138420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643280" y="5229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Arial"/>
              </a:rPr>
              <a:t>= EKOSYSTÉMOVÉ PLAT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C343-73B9-4402-B9A3-F088A58BF9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ápání pojmu „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funkce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rodověd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kauzální) poj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existenční – ekosystémové poj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čelové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eleologické) poj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utilitární – antropocentrické poj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díl v pojetí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závislost - les a vodní režim)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les a srážky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á za následek B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retenční účin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třeba udělat A, aby nastalo B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využití retenčního účinku pro uspokojování lid. potřeb)  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unkce=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díl ve vztah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 lesem a např. vodním reži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zi lesem a lidskou společností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am, kde člověk hospodař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A668-89B7-47B3-BAD1-1D2CBFAE33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unkce l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kauzálním chápání =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inky 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teleologickém (účelovém) chápání =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užitky les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boží a služb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írodní – průvodní – vyrobené uži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FUNKCE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účinky l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ony L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e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robené uži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DUKTY A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Účel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= uspokojení potřeb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00EA-0740-4AEC-B6FB-887A8BDCB6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kční plán EU pro lesnictví (200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ákladní v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Lesy pro společnost: dlouhodobé multifunkční lesnictví uspokojující potřeby společ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DD71-1361-4A6B-B116-FFEB9BEFF0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orie úplavu (závěsu) vs FIL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říve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imoprodukční funkce se nejlépe zabezpeč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 závěs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 dřevní produkc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ájmy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 dřeva a plnění celospolečenského poslání lesů jso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otožné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 alespoň souběžné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Hasel 1971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y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ůst společenské poptávky přináš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p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zi orientací na produkci dřeva a uplatňováním celospolečenských funk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mená to ústupky, odborné schopnosti lesního hospodáře minimalizovat hospodářské obětí při integrování funkcí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funkčně integrované LH = FIL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D2AA-A355-4243-A85D-FB625EE516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é a politické vztahy mezi lesem a člověkem se urč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bchodním rámcem trhu a společ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ztah mezi lesem, lesním hospodářstvím a společností je určován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ávními vztah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kdo, jak, v jakém rozsahu může využívat les k produkci nebo ke spotřebě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vliv na ekonom. hodnotu majet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rozdíly při sběru hub me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ěmeckem, Nizozemskem a Itál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vysvětlit obchodními vztahy a jedná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3D36-6D01-4007-8F01-DB93ED21DFF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echod od nauky o funkcích lesa k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uce o produktech les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pěch lesních podniků = využití jejich obchodních vztahů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dosud málo využívá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rastrukturní služby lesa nesmí být posuzovány v pasivním smyslu jako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Funkce nejsou produkty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lužby musí být definovány jako produkty a nikoliv jako funkce, jinak nemají c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zv. „mezera v produktech“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produkty nejsou financová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dostatek nabídky služeb se pak projevuje politicky a nikoliv ekonom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24D-00A0-4C2B-8D3E-8DE2074A77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alší vývoj nauky o produktech les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sou důležité tyto vě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lužby lesa je nutno uspořádat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ktivně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esmířit se s problémem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vyloučitelnosti</a:t>
            </a:r>
            <a:r>
              <a:rPr b="0" lang="cs-CZ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malé rivality – veřejné stat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Vytvořit institucionální rámcové podmínky pro realizaci na tr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+ smluvní řešení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řístup k trh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nalýza vlivu lesních produktů a služeb na obhospodařování les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ředcházet polarizaci mezi různými skupinami produ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26DC-2594-41E0-9289-317EA93929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třeba 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koncepcí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 vypracování nabídky služe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ro stávající poptáv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chrana biodiverz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dní hospodářství („vodní halíř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kr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enzace C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spodářský rámec pro lesní podniky – 2 prv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uverenita konzumentů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suverenita producentů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rávo vybírat si a právo vyrábět více výrobk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8A84-C3D6-4C6D-BA82-FD910A593C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lastník les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á právo uskutečňovat v lese akce za odpovídající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otisluž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ekonomické hodnotě majetku rozhod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ávní vzt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dhad ceny spotřebi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ležitá je struktura vztahů mezi lesem a člověkem (obchodní vztahy, chování hosp. subjektů v rámci těchto prá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mezi přírodovědným systémem a ekonomickým systémem se prostřednictvím pojmu funkcí spíš zastírá než objas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ívání fyzikálních pojmů pro objasnění ekonomických stavů se blíží n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E736-789C-428F-BD32-EF70B2ED1CE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elosvětové tre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egatre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konomic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rostoucí požadavky na energii a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klesající podíl zaměstnanosti ve výrobních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odvětv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rostoucí konku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asijští ekonomičtí „obři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oci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migrace obyvatelstva z venkova do mě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1800 – 3 %, 2007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50 %, 2030 – cca 60 %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větové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populace ve městech, chudoba, kriminalita, jak řeši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tárnutí obyvatelstva, požadavky na infrastrukturál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měny v systému hodnot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B603-09D4-409B-8A96-40A10BE240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Šíře a složitost probl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veřejných statků 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 a veřejný zá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externalit 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vlastnických práv 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í vazba vlastnictví l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nsakční náklady 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 „produkce-služby“, resp. obsah multifunkčnosti (polyfunkčnosti) les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snické služby a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0796-82C1-4647-93D7-95749287DA0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. Teorie 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veřejných statk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lasifikace veřejných statk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emožňující cenový mechanizm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xkludace-vylučitelno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vyloučení jednotlivce ze spotřeby určitého statku, např. tzv. „černí pasažéři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ivalita-konkurenc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tatek, který konzumuje jeden jednotlivec nemůže být konzumovaný jiným, omezenost stat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 druhy statků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viz tabul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íšené statky, lokální 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6888-033F-4EEB-AADF-47D8CC001B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stat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3413160"/>
        </p:xfrm>
        <a:graphic>
          <a:graphicData uri="http://schemas.openxmlformats.org/drawingml/2006/table">
            <a:tbl>
              <a:tblPr/>
              <a:tblGrid>
                <a:gridCol w="1378080"/>
                <a:gridCol w="660240"/>
                <a:gridCol w="3125880"/>
                <a:gridCol w="306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klud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klud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al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kromé stat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řevo, aut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c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ektivní stat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enzivní rekreace ve ZCH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al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ubové stat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yslivecké sdružení, cykloturist. organiza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řejné stat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bsorbční funkce u CO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DE12-B5F6-4976-9DB6-15220DC14FF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rh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fungují jako automaty samy od sebe, ale vyžadují 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komplexní systém pravidel a institu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využít sdružení vlastníků lesa jako např. v S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božíznalectví dřeva“ –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božíznalectví pro ekologické a rekreační služby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moc vědy prax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ři rozvoji existujícího potenc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pozn.: jednotná řešení a standardní recepty je možné v této oblasti uplatnit jen omeze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A014-3114-4808-BCD1-7384F903409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. Teorie 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external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xternal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nedobrovolný výskyt vedlejších účinků při výrobě nebo spotřebě statků, který způsobuje jiným náklady nebo výno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 Negativní externality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apř.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emi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s les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ik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eroze půdy při těžb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dohospodářské podni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Pozitivní externality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apř. 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mimoprodukční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funkce les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úspory z vynálezů = vynálezc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 spole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loha stá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ři tomt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lhání tr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vyrovnat hodnoty mezi soukromými náklady, výnosy hospodářského subjektu a vzniklými externalit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AC0E-B79F-493F-8CE0-E8C0659DFAD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Vlastnic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ákladním věcným právem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é prá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cná práva k věci cizí, jimiž js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vo zástavní, resp. podzástavní (slouží k zajištění pohledávky),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vo zadržovac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vo odpovídající věcným břemenů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tví v právním slova smyslu označujeme také jako vlastnické prá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51BF-D068-4901-8560-948BBBD0738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sah vlastnického práv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§ 123 Obč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9944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bsah vlastnického prá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občanské právo hmotné, věcná prá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rávnění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ěc drž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držba vs vlast. prá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rávnění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ěc užív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realizace zájmů a potřeb, smlouvy nájemní, neužívání věci) – obhospodařování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rávnění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ěc požív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brát z věci plody a jiné užitky, přírůstky, rozmnožovat svůj majetek) – právo na výnos (důchod) z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rávně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ěcí naklád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svobodně realizovat hospodářské hodnoty věci jiným využíváním než pro vlastní spotřebu) formou právních úkonů, popř. ji i zničit pokud tomu nebrání zákon – disponování s majetkem (zástava) a prodej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31DA-4F03-4A26-BC6E-74FA20285D3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Transakční nákl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, práce a ostatní zdroje vynaložené za účel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uzavření smlu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na řízení firem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klady vynaložené nezbytně k tomu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by se uskutečnila ekonomická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ekonomie to jsou náklady spojené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užíváním cenového mechanis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sakční náklady se dají snižovat správně nastavenými institucemi (pravid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sakční náklady se dělí na interní a exte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klad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nákup v supermarketu, obchod s cennými papíry, zavedení eura v Č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F5C7-4218-4E2F-8054-A70855E34E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ategorizace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lesnických produktů a služ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ECB-8C49-41FD-891D-358A2DFC51B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981000"/>
          <a:ext cx="8135640" cy="5639040"/>
        </p:xfrm>
        <a:graphic>
          <a:graphicData uri="http://schemas.openxmlformats.org/drawingml/2006/table">
            <a:tbl>
              <a:tblPr/>
              <a:tblGrid>
                <a:gridCol w="2682720"/>
                <a:gridCol w="5452920"/>
              </a:tblGrid>
              <a:tr h="47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esnické nedřevní komodity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nedřevní lesnické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y a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zboží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odskupin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duk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onečný výrob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Jedlé výrobky rostlinného pův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705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voce, med, </a:t>
                      </a:r>
                      <a:r>
                        <a:rPr b="0" lang="cs-CZ" sz="1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houby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ořechy, </a:t>
                      </a:r>
                      <a:r>
                        <a:rPr b="0" lang="cs-CZ" sz="1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bobulovité ovoc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byliny, míza, kořeny, svatojánský chléb, alkoholické nápoje, esenciální oleje, kapradí, česnek medvědí, dochucovadla, koření, javorový sirup, karamelové máslo, semena, čaje, zelenina, oleje, divoká rýž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ýrobky živočišného pův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705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Zvěřin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– maso a výrobky z něj, vlna, kožešina, kůže, surová kůže, trofeje, včelí vosk, med, hlemýž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514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éčivé rostliny a výrobky pro péči  o tělo a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705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opřiva, bez černý, květ limety, šípek, </a:t>
                      </a:r>
                      <a:r>
                        <a:rPr b="0" lang="cs-CZ" sz="1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léčivé rostliny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byliny, aromaterapeutické oleje, kosmetika, léčiva, esenciální oleje, bylinné výrobky pro péči o zdraví, vitamíny, parfémy a vonné látky, šampóny a mýd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5607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ůra, suché krm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ýrobky rostlinného pův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705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rmení (píce), korek, dřevořezy, věnce, girlandy a ozdoby, přírodní barviva, větve borovice, mech, kapradí, květiny a květinová dekorace, sezónní </a:t>
                      </a:r>
                      <a:r>
                        <a:rPr b="0" lang="cs-CZ" sz="1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dekorace (např. jmelí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 cesmína), výrobky ze šišek, spásaná tráva, klíh, kaučuk, komp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teriály a řemeslné výrob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705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epidla, barviva, kadidlo, lignosulfáty, těsnicí materiál (např. mech), motouzy a lana, terpentýn, gumy a kauč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101"/>
          <p:cNvSpPr/>
          <p:nvPr/>
        </p:nvSpPr>
        <p:spPr>
          <a:xfrm>
            <a:off x="25092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KLADY LESNICKÝCH NEDŘEVNÍCH KOMODIT A SLUŽEB (LNKS) POLYFUNKČNÍHO LESNÍHO HOSPODÁŘSTVÍ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Zdroj: SFC, listopad 2008,mírně uprave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E383-F840-44E2-829D-059535549B4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oncentrace vlastnictví lesa a kapitálu v lesnic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dnárodní společnosti vs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árodní lesnické poli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 národní lesnické politiky pro kvalitu života, pro ekonomickou a sociální stabilitu ven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ek na spolupráci politiků s nadnárodními podniky: „veřejně soukromé partnerství (PPP)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gativní dopady pro regionální rozvoj založený na lesnictví – hospodářské probl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les konkurenceschopnosti původních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urov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rozvinutých zem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ovace zpracování dř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ude lesnictví z procesu globalizace také profitov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flexibili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konomická globalizace a její vl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5639-783B-4319-ADFA-201E6418C8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8360" y="476280"/>
          <a:ext cx="8351640" cy="6094440"/>
        </p:xfrm>
        <a:graphic>
          <a:graphicData uri="http://schemas.openxmlformats.org/drawingml/2006/table">
            <a:tbl>
              <a:tblPr/>
              <a:tblGrid>
                <a:gridCol w="1749240"/>
                <a:gridCol w="1319400"/>
                <a:gridCol w="5283000"/>
              </a:tblGrid>
              <a:tr h="64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esnické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-MENTÁLN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KOLOGICKÉ)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hrana v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Zlepšování </a:t>
                      </a:r>
                      <a:r>
                        <a:rPr b="0" lang="cs-CZ" sz="1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kvality vody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odvodňování a přírodní zavlažování, zdroj vody (pitné, zavlažovací a průmyslové), mírnění lavinového nebezpečí, eliminace povrchové eroze a usazování, filtrace znečišťujících látek z vody, udržování nízkého průtoku a regulace průtoku, ochrana před povodněmi a jejich zmírňování, zvyšování srážek (např. „lesy pro zadržení mraků“), zmírňování salinity, ochrana rozvodí, zadržování vody (poskytují vyšší stupeň infiltrace a kapacity podzemní vody než jiné vegetační porosty), regulace hydrologických cyklů (ovlivňují efekt srážek a povodní), regulace a redistribuce povrchového a podzemního odtékání vo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hrana pů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řemísťování horninového materiálu vlivem gravitace, zmírňování či předcházení větrné </a:t>
                      </a:r>
                      <a:r>
                        <a:rPr b="0" lang="cs-CZ" sz="1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erozi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stabilita pobřeží obzvláště v případě písečných dun, předcházení zanášení bahnem, údržba produktivity orné půdy pomocí stromů, ochrana přirozeně produktivních půd, udržování vitality půdy a produktivity ekosysté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hrana zdrav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Ochrana lidských obydlí a infrastruktury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zpracování odpadu, kontrola znečištění, filtrace prachových částic, redukce hluku, výroba potravin, udržování dobré kvality ovzduší, zvlhčování vzduchu, obohacování silice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AD1E-6572-431D-84C7-08E64D81E5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9280" y="620640"/>
          <a:ext cx="8712360" cy="5999400"/>
        </p:xfrm>
        <a:graphic>
          <a:graphicData uri="http://schemas.openxmlformats.org/drawingml/2006/table">
            <a:tbl>
              <a:tblPr/>
              <a:tblGrid>
                <a:gridCol w="1849680"/>
                <a:gridCol w="1606320"/>
                <a:gridCol w="525636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OSFÉRICKÉ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hrana biodiverz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Zachování biodiverzity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zajištění přirozených životních podmínek, udržení biologické a genetické diverzity, údržba komerčně těžených druhů, opylování větrosprašných druhů a odrů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gulace klima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Udržení rovnováhy </a:t>
                      </a: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uhlíku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uchovávání a oddělování uhlíku, stabilizace makroklimatu, zmírňování globálních změn klimatu, zajištění stabilních </a:t>
                      </a: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mikroklimat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zmírnění extrémů v rámci městských mikrokli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uris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Cestování přírodními ekosystémy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požitek z vyhlídky, turistika v přírodě, kulturní turistika, turistika směřovaná na venkov, udržitelná turist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LUŽBY OBYVATELSTV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kre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Chůze, pěší </a:t>
                      </a:r>
                      <a:r>
                        <a:rPr b="0" lang="cs-CZ" sz="1600" spc="-1" strike="noStrike">
                          <a:solidFill>
                            <a:srgbClr val="3333ff"/>
                          </a:solidFill>
                          <a:latin typeface="Arial"/>
                          <a:ea typeface="SimSun"/>
                        </a:rPr>
                        <a:t>turistika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stanování, pozorování ptáků, </a:t>
                      </a:r>
                      <a:r>
                        <a:rPr b="0" lang="cs-CZ" sz="1600" spc="-1" strike="noStrike">
                          <a:solidFill>
                            <a:srgbClr val="3333ff"/>
                          </a:solidFill>
                          <a:latin typeface="Arial"/>
                          <a:ea typeface="SimSun"/>
                        </a:rPr>
                        <a:t>lov a rybolov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orientační závody v přírodě, </a:t>
                      </a: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jízda na koni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jízda na horském kole, airsoft, organizovaný sběr nedřevního lesního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boží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</a:t>
                      </a: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pronájem chat a chal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portovní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Venkovní sporty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organizované sportovní soutěže, lov, rybol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zdělávací (pedagogické)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78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Školní exkurze, </a:t>
                      </a: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školy v přírodě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intelektuální rozvo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E0A4-CFAC-42CC-8A65-5211FAC1EE1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692280"/>
          <a:ext cx="8136000" cy="5832360"/>
        </p:xfrm>
        <a:graphic>
          <a:graphicData uri="http://schemas.openxmlformats.org/drawingml/2006/table">
            <a:tbl>
              <a:tblPr/>
              <a:tblGrid>
                <a:gridCol w="1533600"/>
                <a:gridCol w="1454040"/>
                <a:gridCol w="5148360"/>
              </a:tblGrid>
              <a:tr h="200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uchovní slu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vatá, náboženská či jiná forma duchovní inspirace, </a:t>
                      </a: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svatá místa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– např. starodávná místa pro bohoslužbu a uctívání duchů předků, duchovní naplnění, biofilie, posvátné rostliny a zvířata, krajinné prvky (hory a vodopád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ZPŘÍJEM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ĚNÍ PROSTŘE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lturní slu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Příroda jako námět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e filmu, knihách, obrazech, folkloru, národních symbolech, architektuře, kulturní identita a hodnoty spojené s lesem, připomínky minulých kulturních vazeb v krajině, estetický požitek a inspi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istorické slu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8750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Zvláštní krajiny, </a:t>
                      </a:r>
                      <a:r>
                        <a:rPr b="0" lang="cs-CZ" sz="16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staré stromy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zbytky starých způsobů kultivace, historické artefa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64CE-EEB4-4461-9110-D37EBC28765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85672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NOSTI ZE ZAHRANIČÍ</a:t>
            </a:r>
            <a:br>
              <a:rPr sz="4000"/>
            </a:br>
            <a:br>
              <a:rPr sz="40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S UVÁDĚNÍM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3300"/>
                </a:solidFill>
                <a:latin typeface="Arial"/>
              </a:rPr>
              <a:t>REKREAČNÍCH A EKOLOGICKÝCH SLUŽEB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T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476360" y="335772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20CE-EE2C-4A87-961C-826A4261A3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06472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ípadové studie</a:t>
            </a:r>
            <a:br>
              <a:rPr sz="40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rekreační a ekologické služby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- přeh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187280" y="443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Rakousko, Německo, Itálie, Nizozem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6834-CC5A-4E07-AE66-B9AF358E50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kreační služby –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nájem běžeckých tra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nájem lyžařských sjezdov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přístupnění lesních silnic pro horská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ůjčování horských 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latek za používání lesní c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yklistické ste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0049-7102-4858-8D45-7C2ADCDABA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kreační služby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olenky pro jízdu na k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bídka sítě jezdeckých c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ívání cest jezdeckou ško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bídka rekreačního 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zdninové komfortní apartmány v dřevěných dom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zdninové do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ngalovy v lese (pronájem bývalých mysli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nzorování rekreačních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vecké a jezdecké poby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volená s hajn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C78-930F-400C-BBD9-FD7246E2CFD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kreační služby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koviště a pik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rodní kem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ubařské lís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nájem park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nájem terénu pro golfový are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nájem rybníka se zařízením pro ryba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1FCA-1B89-433B-ABB9-DE7B89D57D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kologické služby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louva o ochraně přír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logický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chrana modřínových l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ponzorová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lesň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nzorování životního prostředí v l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nzorování zbytku pra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 C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 pramenité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442D-6B8E-4CE3-A790-2E7CE60238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ůzné produkty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platy za povolení filmování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právo exkluz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a elektřiny z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gistrace obchodní značky „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zonanční dřevo Val Cana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jenské cvičiš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ánoční tr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chod s přírodními produ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 ekologického masa (prodej zvěři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 ekologického s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C476-AE93-4602-B327-34AB1763EB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Evropské trendy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abonská strategie EU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EU do roku 2010 by se chtěla stát 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nejkonkurenceschopnější a znalostní ekonomik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s vyšším počtem lepších pracovních mí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raz na výzkum, technologický rozvoj, ino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tnost široce sektorového myšlení a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A99-8E7A-4197-BDD2-87B44FF705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ůzné produkty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mináře pro manaž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rvival &amp; Wilderness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utdoorové akce pro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sní ak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exkur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sní školy v přír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ované výlety do 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rzy k otázkám ekologie 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ovaný myslivecký 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zka za korunami stro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FDEB-5EB4-480F-9FC7-658CAEC2F7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84692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YTVOŘENÍ TRŽNÍ NABÍDKY </a:t>
            </a:r>
            <a:br>
              <a:rPr sz="4000"/>
            </a:b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NOVÝCH PRODUKTŮ (LNKS)</a:t>
            </a:r>
            <a:br>
              <a:rPr sz="4000"/>
            </a:br>
            <a:br>
              <a:rPr sz="40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LNKS = lesnické nedřevní komodity a služ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5A89-521F-4E09-8913-CB414D44C70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iné formy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právně přípustného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yužití lesních pozemků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dodatečně povolené formy užívání lesa)</a:t>
            </a:r>
            <a:br>
              <a:rPr sz="4000"/>
            </a:br>
            <a:br>
              <a:rPr sz="4000"/>
            </a:b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163B-4207-4704-A24A-EB31B0666F4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hřbení v lese ke stromu (urnové lesní háj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5D68-0C76-4F58-84DC-AD87F34E69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Kříž v lese"/>
          <p:cNvPicPr/>
          <p:nvPr/>
        </p:nvPicPr>
        <p:blipFill>
          <a:blip r:embed="rId1"/>
          <a:stretch/>
        </p:blipFill>
        <p:spPr>
          <a:xfrm>
            <a:off x="250920" y="333360"/>
            <a:ext cx="4392360" cy="3298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Les a lidi"/>
          <p:cNvPicPr/>
          <p:nvPr/>
        </p:nvPicPr>
        <p:blipFill>
          <a:blip r:embed="rId2"/>
          <a:stretch/>
        </p:blipFill>
        <p:spPr>
          <a:xfrm>
            <a:off x="324000" y="3882960"/>
            <a:ext cx="3671640" cy="27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Strom1"/>
          <p:cNvPicPr/>
          <p:nvPr/>
        </p:nvPicPr>
        <p:blipFill>
          <a:blip r:embed="rId3"/>
          <a:stretch/>
        </p:blipFill>
        <p:spPr>
          <a:xfrm>
            <a:off x="4859280" y="189000"/>
            <a:ext cx="4175280" cy="3135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ELM44"/>
          <p:cNvPicPr/>
          <p:nvPr/>
        </p:nvPicPr>
        <p:blipFill>
          <a:blip r:embed="rId4"/>
          <a:stretch/>
        </p:blipFill>
        <p:spPr>
          <a:xfrm>
            <a:off x="3780000" y="2421000"/>
            <a:ext cx="2233440" cy="15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Buk"/>
          <p:cNvPicPr/>
          <p:nvPr/>
        </p:nvPicPr>
        <p:blipFill>
          <a:blip r:embed="rId5"/>
          <a:stretch/>
        </p:blipFill>
        <p:spPr>
          <a:xfrm>
            <a:off x="4932360" y="3933720"/>
            <a:ext cx="40323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D510-05DE-41AD-92C9-A37FCB3E2E1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FriedWälder in NiederSachsen-upr1"/>
          <p:cNvPicPr/>
          <p:nvPr/>
        </p:nvPicPr>
        <p:blipFill>
          <a:blip r:embed="rId1"/>
          <a:stretch/>
        </p:blipFill>
        <p:spPr>
          <a:xfrm>
            <a:off x="0" y="0"/>
            <a:ext cx="6626160" cy="5527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karte_klein_fw_lbheide"/>
          <p:cNvPicPr/>
          <p:nvPr/>
        </p:nvPicPr>
        <p:blipFill>
          <a:blip r:embed="rId2"/>
          <a:stretch/>
        </p:blipFill>
        <p:spPr>
          <a:xfrm>
            <a:off x="5867280" y="3429000"/>
            <a:ext cx="3276720" cy="3429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esta v lese_1"/>
          <p:cNvPicPr/>
          <p:nvPr/>
        </p:nvPicPr>
        <p:blipFill>
          <a:blip r:embed="rId3"/>
          <a:stretch/>
        </p:blipFill>
        <p:spPr>
          <a:xfrm>
            <a:off x="0" y="4076640"/>
            <a:ext cx="3348000" cy="2781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edule1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DBF7-100F-4880-885E-273E5D424D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hřbení v lese ke stromu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ance pro vlastníky zhodnotit svůj les –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ová strategie pro budoucí využití 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a pohřbívání se nachází v období přel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edpoklad: zpopel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chování zemřelého v urně na kořeny propachtovaného stromu ve volné přír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ada výhod (diskrétnost ale ne anonymita, rodinný strom pronajatý na generace – na dobu 99 let, nezastavění cenných pozemků – šance pro obec, žádné náklady na péči o hrob, jistota v zanesení do K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Německu od roku 2000, nyní asi 25 takových „pohřebišť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BF6B-17CC-4038-A795-4F57C95FE9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hřbení v lese ke stromu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založení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sto se musí nacházet mimo zastavěné plo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jít vlastníky lesa se vhodnými ploch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lnění lesnických a infrastrukturálních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ritéri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álně více jak 30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ost převážně listnatý, ale může být i v mladších věkových tříd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brá cestní síť a připojení na veřejn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osty v blízkosti velkých sídelních celků, ale pokud možno v klidné polo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0817-06A2-42CC-8E46-D88345A96E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hřbení v lese ke stromu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kony (služby) vlastníka lesa spočívají v pronáj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ává k dispozici 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rá se o les, cesty a parkov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azuje nový strom v případě jeho odum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uje myslivost a těžbu dř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áhá pozůstalým při volbě stromu a při pohřbu, dává popel do urny, přemisťuje urnu, otevírá a uzavírá hrob u stro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nájmu a poskytnutých služeb lz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ílit zis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d 50 000 do 60 000 €/h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ceny v závislosti na tloušťce, druhu a poloze stromu, jako strom pro jednotlivce, resp. až pro max. 10 osob –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 350 až 6 350 €/stro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1D95-B418-42F1-B7DD-44D908EDB5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ětrné farmy na lesních pozem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EDD7-6531-4542-B8D0-0B116D8CAF6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005 – revize Lisabonské 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hlavní důraz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eferenci růstu a zaměstna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dlouhodobých růstových fak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vestování do znalostí a přizpůsobiv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přenosu poznatků do hosp. pra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ojení univerzit a podnikatelské 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fistikovanější výrobky a služby s vyšší přidanou hodno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Evropské trendy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62A1-B6C5-476F-B93C-6798718A9E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900000" y="907920"/>
          <a:ext cx="784872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07920"/>
                    <a:ext cx="784872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A6F8-120B-4C75-84C2-C1375C7EF5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rné elektrárny v mnoha regionech již patří k obvyklému obrázku Němec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 lese se rotory větrných elektráren naproti tomu vidí srovnatelně zříd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á přestavba zásobování energiemi z fosilního spalování surovin k využití bezimisních energetických zdrojů (slunce, vítr) + nezávislost na drahých a nejistých dovozech surovin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úrovni regionálního plánování a plánování využití ploch se musí prot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ledat vhodné plo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Lesní stanoviště v exponovaných polohách nabízejí v Německu nejlepší podmínky pro využití energie vět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35B-1D84-4422-9A9A-8C9A78D7C94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ři využití O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tečou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ení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dnoduše do ciziny nebo do pokladen velkých koncernů, nýbrž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ůstávají v regione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mohou nastartovat regionální ekonomiku a vytvořit nová pracovní mí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hodné plochy jsou však omezeny a musí splňovat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nožství požadav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5951-0D32-4D8C-95E0-214DE69849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nosti větrných elektráren v lesních oblast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ká vzdálenost těchto lokalit od obydlených čá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tížení prostředí hlukem a vrháním stínu z točících se rotorů nezpůsobuje žádné probl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sní lokality jsou na základě již existující lesní dopravní sítě s nízkými dodatečnými stavebními opatřeními dobře přístup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 finančního hledis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využití větrné energie v lese velmi vy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lastníkovi pozem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 moderní větrná elektrárna 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 jak 2 MW jmenovitého výkonu a roční výrobo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mil. kWh přináš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ční příjmy z nájemného v 5-ti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iferné vý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b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mají vydatné příjmy z živnostenských daní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nancování obec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C7C9-DBE1-4749-BE07-92A1A49E68F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rofore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8DB7-990D-4D89-A128-2162087D57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Čuníci v lese-up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E49A-D00E-42C0-A890-15C48819DE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Agroforestry v AFZDerWald_22_20100001"/>
          <p:cNvPicPr/>
          <p:nvPr/>
        </p:nvPicPr>
        <p:blipFill>
          <a:blip r:embed="rId1"/>
          <a:stretch/>
        </p:blipFill>
        <p:spPr>
          <a:xfrm>
            <a:off x="468360" y="1197000"/>
            <a:ext cx="828036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9FCF-1954-4F94-8644-2BA8185810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Nabídka 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zvláštních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rekreačních produktů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 jejich uvedení na t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Zástupný symbol pro číslo snímk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B891-DFA6-47CB-A408-48251A54A7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Arial"/>
              </a:rPr>
              <a:t>Změna vylučitelnosti a rivalit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na různé úrovni užitečnosti </a:t>
            </a:r>
            <a:r>
              <a:rPr b="1" lang="cs-CZ" sz="2000" spc="-1" strike="noStrike">
                <a:solidFill>
                  <a:srgbClr val="3333cc"/>
                </a:solidFill>
                <a:latin typeface="Arial"/>
              </a:rPr>
              <a:t>produ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"/>
          <p:cNvSpPr/>
          <p:nvPr/>
        </p:nvSpPr>
        <p:spPr>
          <a:xfrm>
            <a:off x="1471680" y="781200"/>
            <a:ext cx="5757840" cy="5757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"/>
          <p:cNvSpPr/>
          <p:nvPr/>
        </p:nvSpPr>
        <p:spPr>
          <a:xfrm>
            <a:off x="1908000" y="1293840"/>
            <a:ext cx="4678560" cy="4678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2484360" y="1844640"/>
            <a:ext cx="3598920" cy="359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3025800" y="2403360"/>
            <a:ext cx="2519280" cy="251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3564000" y="2908440"/>
            <a:ext cx="143964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39528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7020000" y="4941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9900"/>
                </a:solidFill>
                <a:latin typeface="Arial"/>
              </a:rPr>
              <a:t>Lesní c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3708360" y="32846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ní uži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368520" y="265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Generický produ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3416400" y="206064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9900"/>
                </a:solidFill>
                <a:latin typeface="Arial"/>
              </a:rPr>
              <a:t>Očekávaný produ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203640" y="1484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cc"/>
                </a:solidFill>
                <a:latin typeface="Arial"/>
              </a:rPr>
              <a:t>Rozšířený produ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132000" y="98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tencionální produ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5003640" y="3645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324000" y="36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>
            <a:off x="5384880" y="2997360"/>
            <a:ext cx="32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 flipH="1">
            <a:off x="237600" y="300996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>
            <a:off x="5572080" y="2349360"/>
            <a:ext cx="31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 flipH="1">
            <a:off x="250920" y="2349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1"/>
          <p:cNvSpPr/>
          <p:nvPr/>
        </p:nvSpPr>
        <p:spPr>
          <a:xfrm>
            <a:off x="5686560" y="177336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2"/>
          <p:cNvSpPr/>
          <p:nvPr/>
        </p:nvSpPr>
        <p:spPr>
          <a:xfrm flipH="1">
            <a:off x="250920" y="184464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5757840" y="1125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 flipH="1">
            <a:off x="178920" y="1125360"/>
            <a:ext cx="2737080" cy="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250920" y="306864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icho a spá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250920" y="2492280"/>
            <a:ext cx="17287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tel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cep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0920" y="1844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prcha, telefon a snídan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250920" y="119700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levize, hotelový bar a bazén, sa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123840" y="68436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kreační dovolenkové progra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724360" y="69228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Rekreační dovolenkové progra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6372360" y="1341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Arial"/>
              </a:rPr>
              <a:t>Mapy, vybavení a altá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838920" y="191628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9900"/>
                </a:solidFill>
                <a:latin typeface="Arial"/>
              </a:rPr>
              <a:t>Značky a krásy přír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7308720" y="242100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sní cesta a pěš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308720" y="31417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kre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5"/>
          <p:cNvSpPr/>
          <p:nvPr/>
        </p:nvSpPr>
        <p:spPr>
          <a:xfrm>
            <a:off x="250920" y="6381720"/>
            <a:ext cx="26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Generický = k tomu přísluš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3CDF-3D49-4C8B-A90E-51E12868CB5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usnadnění uvádění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ekreačních produ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 trh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asnější formulace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práva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lastníků lesa ze strany zákonodá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ři respektování právních požadavků spojených s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právem vstupu do le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asně formulovat právo vlastníků lesa vybírat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finanční úhradu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za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specifické formy užívání 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odatečný příjem ze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soukromoprávních smluv 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í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jasnit, které produkty (zboží a služby) odpovídají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ociální povinnost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e smyslu funkcí lesa, a které by byly obchodovatel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jasnit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stulát multifunkčnost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měna systému produkce-služby, podříze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6D15-B17C-4A60-BAB3-CD13DDFDEB1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Evropské trendy v LH - 1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becné trendy v lesnické politic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áření znalostní a informační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lidských zd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yšování konkurence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centraliza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přesuny center moci a úřadů na regionální a subregionální úroveň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šší přidaná hodnota při využití dř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oborovost při spoluprá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kace-kooperace-koordin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D940-FEF2-47F5-AE86-9C30904B4A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ánoční tr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ík soukromého lesa (190 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s jako prodejní mí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trakce v le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táborák, svařené víno, jízda na ponících, prodej adventních svícnů a dřevěných předmětů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ánočních str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ánoční trh = rámcový program podporující prodej, kd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e hodnota tradičního produktu (vánočních stromků) zvýší prostřednictvím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vku proži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ová skupina = r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obchodu je integrována do obvyklého provozu lesního podniku, není to oddělená oblast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0057-996D-42DF-A9FD-845EA902355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oubařské lís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Itál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 u="sng">
                <a:solidFill>
                  <a:srgbClr val="000000"/>
                </a:solidFill>
                <a:uFillTx/>
                <a:latin typeface="Arial"/>
              </a:rPr>
              <a:t>zákonná úprava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Arial"/>
              </a:rPr>
              <a:t> možnosti prodávat houbařské lístky lokálními úřa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sběr hub byl regionálním zákonem omezen na 2 kg/den pro nedomácí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1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povinnost pro všechny houbaře bydlící mimo provinc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zákonem předepsáno: 70 % příjmů z prodeje licencí se musí investovat zpět do L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nástroj kontroly sběru hub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– regulace využí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o r. 1991 prodej obcemi, v hostincích, turistických informacích, ve spec. prodejnách, v kanceláři regionální lesní správ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 r. 1991 prostřednictvím pošty (možnost získat licenci jednoduchým převodem na poštovní bankovní účet regionálního svazu) a v turist. a informačních střediscích v údol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Arial"/>
              </a:rPr>
              <a:t>vystavování povolenek úspěšnější než totální zákaz sběr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ceny kolísají, cena podle licence – denní, týdenní, měsíč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místní obyvatelé zadarmo (volné licenc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tížnosti, velký odpor houbařů, akceptace poplatků až po mnoha lete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Arial"/>
              </a:rPr>
              <a:t>problémy s kontrolou povole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alkulace nákladů pro rozdělování příjmů mezi zúčastněné ob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9867-1B53-49AA-8D26-14667191196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ázdninové domky za úpl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ík soukromého lesa (190 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tavba ubytovny pro lesní dělníky na prázdninové do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ové skupiny – rodiny z města, skupiny mládeže, jezdci na koních, rybá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abídka ve spolupráci s turistickou kancelá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né problémy s právními rámcovými podmín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ečně s pronájmem nabízen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další produ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ED6D-553A-456D-AEE6-98CD951F1B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volená s hajný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bízen je „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balík“ pro dovoleno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denní program, 4 půldenní programy) složený z prohlídek lesa a lesníkem jako průvod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rnuta je doprava k různým místům exkurzí, putování, aktivity v lese (např. vysazování stromků a těžba dřeva), oběd, diplom (certifikát) na konci a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ace na aktivitu a na skutečnost, že les sám je středem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ové skupiny = turisté (40 až 60 let) se zájmem o přírodu a les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produkt byla vytvořen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ržní značka „300 let za 7 dn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ukt je nabízen regionálním turistickým informačním střediskem – to platí i služby lesníků (písemná rámcová smlouva mezi střediskem a lesní správ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ízké počty účastník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kročen práh rentability </a:t>
            </a:r>
            <a:r>
              <a:rPr b="0" lang="cs-CZ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puštěno od ofenzivního uvádění produktu na tr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hmotných cílů bylo dosaž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jednotlivé uzavřené skupiny je stále možná placená úč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5D6D-8C32-4965-A7D6-15FAA4860E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bídka sítě jezdeckých c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ejvětší souvislé lesní území v regionu v blízkosti Hamburk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roční jezdecké kart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(prodávají se již 30 let) + jezdecká doho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cena: na základě nákladů a přirážky na zisk (z nájmu za cesty a poplatku za údržbu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lastník soukromého lesa svůj produkt nabízí pří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cílové skupiny = jezdecké školy a kluby, jednotliví jezd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jezdecká škola zpočátku nechtěla platit žádnou úhrad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, veřejně prospěšný spolek vs. živnostenské využívání cest (argument neuspě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 jezdeckými školami jsou smlouvy o využíván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regulování a usměrňování návštěvníků a zamezování konfliktů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, omezení využívání na určité cesty, směrováním jezdců se opět umožní lov a snížení škod zvěř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roblém s černými jezdci, kontrola obtížná, pokuty příliš nízk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konkurence je malá, protože území není srovnatelné s jinými územími, v nichž lze jezdit na koni bezplatn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šéf lesního podniku nemá zájem o další rozšiřování produktu kvůli černým jezdců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existoval problém dopravní bezpečnosti pro jezdecké cesty (pozn.: na jiném soukromém majetku je odpovědnost za škody při úrazech na jezdcích samýc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odstranění konfliktů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mezi pěšími, cyklisty a jezdci (odstranění nejasností ohledně skupin uživatel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zákazníci produkt kritizují, ale akceptují h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B700-546F-4CAD-AC76-42F8E5C015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přístupnění lesních silnic pro horská k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akouské spolkové lesy, a.s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prostřednictvím smlouvy o využívání zpřístupňují lesní siln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luvní partner = veřejně prospěšný spolek  financovaný spolkovou zemí, pak spolková země jako smluvní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uristická infrastruktura území je vynika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odatkový servi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umisťování tabulí 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ůjčování horských k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yt organizován prostřednictvím turistických kanceláří (veřejně prospěšný spolek je zařazen jako mezičlánek z politických důvod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sponzorován poštou (tabule) a jednou pojišťovnou (pojištění zákonné odpověd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enciál konfliktu – lov, těžba dř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ost úhrady za využívání lesních cest nejprve kritizovala, mezitím je však akceptovala (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vní bod kriti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Rakouské spolkové lesy jakožto veřejný vlastník lesa by měl lesní cesty nabízet bezplat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koncepce v Tyrolsku – názor úřadů, že vlastníci lesa musí lesní silnice poskytovat bezplat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883C-1711-46BB-B7C0-C2AE3BD6B0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bídka pik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ík lesa v italském údolí v národním pa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svém pozemku nabíz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iknik s dodatečným servise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dřevo na grilování, jídla, nápoje, houpačky, toalety) a využívá obliby území u výlet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mé uvádění produktu na trh, využití pouze pojištění zákonné odpověd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lastník byl nespokojen s malou podporou veřejných orgá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hosté nejprve rozhořčeni cenou za využívání piknikového místa, avšak </a:t>
            </a:r>
            <a:r>
              <a:rPr b="0" lang="cs-CZ" sz="2800" spc="-1" strike="noStrike" u="sng">
                <a:solidFill>
                  <a:srgbClr val="333399"/>
                </a:solidFill>
                <a:uFillTx/>
                <a:latin typeface="Arial"/>
              </a:rPr>
              <a:t>perfektní servis a dobrá organizace kritiku umlč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DBE5-F20D-49E9-A745-81F44F3700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Nabídka dalších tržních produktů (např. pitná voda) ze strany lesních podn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ED98-DDA2-4C12-A956-0EEFCD18B66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dej pitné vody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voda jako produkt les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růstá na vý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ěmecku pochází pitná voda z 82 % z podzemní a pramenité v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ná hydrologická situace, al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 větší části leží oblasti ochrany zdrojů pitné vody v les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snatost těchto oblastí se nachází nad průměrnou lesnatostí jednotlivých spolkových 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význam pro všechny aspekty tržního zhodnocení vody z lesa =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zemní voda není v Německu z právního hlediska součástí vlastnictví pozem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na rozdíl např. od Rakouska)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mezené dispoziční právo vlastníka lesa k tomuto zdro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ití vody nepatří do dispozičního práva vlastníka pozemku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vlastníku lesa kompenzovat jeho lesnická opatření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7B33-72BA-4CBD-814E-27662B5BFE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dej pitné vody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řeš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mluvní kooper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hodnost tohoto modelu také při zajišťování dobrovolných výkonů ze strany vlastníků, které slouží k optimalizaci kvality spodní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Nyní řada překáž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epříznivá právní situace pro vlastníky 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ybí zachycení specifických příspěvků lesního hospodářství k ochraně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ybí vhodné zúčtovací a kompenzační mo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1EBC-002D-4856-87E7-D11BA45E653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slední trendy v lesnické politice E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kční plán EU pro lesnic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rincip subsid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malizovat vnější vlivy na lesnickou poli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ětšování propojení lesnické politiky s dalšími politi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ve struktuře státní správy (decentralizace, privatizac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skuse o roli st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globálního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tráta konkurenceschopnosti vůči výrobcům mimo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rtifikace – tržně orientovaný nástroj k podpoře TU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význam ochrany přírody a biologické d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Evropské trendy v LH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0B3B-6C83-4C4B-B2CF-3890703056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s s pitnou vod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olní Sask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zákonem je zde předepsán tzv. „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odní fen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bírají ho spolu s normálním účtem za vodu dodavatelé pitné vody a musí být použit na aktivity spojené s ochranou pitné v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přeměna čistě jehl. porostů na smíšené za účelem zvýšení vydatnosti pitné v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ové skupiny = spotřebitelé vody, úřední ochrana přírody a les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se stává znám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ganizování přednášek a společných akcí, tisk publ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lesní úřad jako zprostředkovatel odbytu pro produkt a uzavírá smlouvy s každým jednotlivým vlastníkem lesa, který má zájem se na projektu účast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ležité rámcové podmínky = ustanovení území ochrany zdrojů pitné v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sní úřady uvítaly zejmén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úhrady za environmentální výkony lesa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úřady ochrany přírody zvyšování biodiverz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D09D-3BA9-472C-B018-35509D87E2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dej pramenité 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kromý lesní podnik  v okol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alzbu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ěratelé =  8 malých vodárenských společností a jiní soukromí uži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é vodárny nepatří k zákazník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menná oblast (500 ha) na území lesníh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odovody a sběrné nádrže byly vybudovány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od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nik uvádí produkt na trh s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í zákazníci = neformálními kontakty, osobními doporučení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iziko se smlouvou přenáší na uži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yní docilování kladného příspěvku na úhr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ý pohled = analýza potenciálů, definice odpovědnosti, marketingový mix, contr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regionálním plánovacím úřadem byly kladné kontakty, jelikož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abídka pitné vody je ve veřejném zá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třebitelé vody a široká veřejnost nabídku uví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74D7-10BC-44ED-A442-21ABF4B2DA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užívání pitné vo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Holandsku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a základě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brovolné dohody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platí vodárna státnímu lesnímu podniku odškodně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 odebrání pitné vody z lesního ú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my z toho činí cca 25 % celkových příjmů lesního pod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dškodnění je založeno na výpočtu snížených přírůstů dř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locha vykazuje pro vodárnu nízký potenciál rizika ve srovnání se zemědělskými nebo zastavěnými ploch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 lepší platit kompenzace než čistit znečištěnou v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ek na zahrnutí využívání pitné vody na ekologickou hodnotu území (negativní efekty na ochranu přírody – změna druhového složení při narůstajícím suc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8152-B9FC-42B8-9A6C-1D9DB628B9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platy za povolení film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ásná lesní krajina u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msterod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ití pro komerční televizní spoty a jiné komerční události za pevné saz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nabídku vyvinuty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peciální ta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datečný serv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příprava příslušných doprovodn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úspě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důležitý existující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erson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ové skupiny = filmoví a televizní producenti, komerční fotografové, fotografové svateb, pořadatelé módních přehlí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y vypočteny dle běžných nákladů a s přirážkou za správní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í dohoda: využívání území pro účely škodlivé ŽP nebo reklamu aktivit škodlivých ŽP nebude udělováno povo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5236-D90E-4035-96F7-5246305E66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utdoorové akce pro fi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ultant podnikatele nabízí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peciální seminář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ýmového rozvoje managementu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lesní úřad vystupuje jako poskytovatel služeb pro tohoto konzultanta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oduktový balí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ámcová smlouva mezi zemskou lesní správou a konzultan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ogra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ůvodce lesem, využití lovecké chaty, jízda drožkou v lese, různé outdoorově orientované aktivity v l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faktory úspěšnosti produk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zajímavá túra, atmosféra lovecké chaty, zaměření na zákazníka, tělesná činnost na čerstvém vzduchu, exkluzivní uby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ové skupiny =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ětší fir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edení podniků, personální oddělení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pacita cca 20 akcí za 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102F-D64D-4B29-BEA8-8FDFB62B77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ezka korunami strom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L - státní lesní úřad nabíz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aučnou stezku korunami stro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okolí neexistuje srovnatelný produ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ost o stavební povolení, změna územního plánu kraj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ukt vyvinut ve spolupráci s provincií a místními turist. organizac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odatečné know-how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ylo opatřeno od architektů a jiných porad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aktory úspěš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dobrá publicita na počátku, dosavadní jedinečnost, připravenost ke stálým inovac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ce o tržním potenciálu dodávala turist.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projekt byl vypracován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eciální plán komun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ukt nabízen ve spolupráci s turist. organizací provincie, hotely a cateringovým průmyslem bez formál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lesní správa je odpovědná za péči a údržbu stezky, turist. organizace za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mlou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sou jen s úklidovými firmami, s nájemcem restaurace a s průvodci turis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je v účetnictví a v kalkulaci nákladů veden odděle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850A-E144-4EA5-B7AA-3A9F1F1DA70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ponz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A91A-7C10-46EA-9159-112512A296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onzorování zalesň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enší vlastník les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ístní prodejce aut = sponzor, jeho myšlenka (návaznost na kampaň značky Ford) – z důvodu public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lesní úřad nabídku předal 2 zemědělcům, kteří chtěli zalesňov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ržní zhodnocení sponzoringového produktu založeno na přímém zprostředkovatelském kontaktu mezi  lesním úřadem a sponzor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cena = podle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ísemné smlouvy nebyly učině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inancování zalesnění sponzorování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= zemědělec ušetří vlastní podíl obvyklý při podpoře + ulehčení veřejným pokladná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alesnění provedeno v přítomnosti místního obyvatelstva a pozvaných hostů – následná nabídka pohoštění a nápojů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malá slavnost – sponzor využil pro účely P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hlas na tuto akci prezentovanou v tisku byl velmi kladn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293E-A21D-43EC-9241-41BB191594A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onzorování ŽP v l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vní cíl =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výšení vydatnosti podzemních zdrojů vo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řeměnou borových lesů na smíšené borové bučiny (prokázání = posud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rodukce vody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 = odpovědnost za ŽP = hodnota, která je prodávána prostřednictvím sponzorin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ě prospěšný spolek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limaschutz durch die Wal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ělá akvizici sponzorů, organizuje práci s veřejností, organizuje vysaz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lastníci lesa – dávají k dispozici svůj les k bezplatnému zales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dosažení cíle = info materiály, zvaní novinářů, články v novinách, reportáže v rozhlase a televizi, návštěvy ekologických veletrhů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ukt je z daňových důvodů financován prostřednictvím darů (neexistují žádné písemné smlouvy o sponzo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ové skupiny = firmy, veřejné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ukt je nabízen ve spolupráci s lesními pod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inanční cíle o.p.s.  sledovat nesmí, vlastník lesa však dostává zalesňování bezpla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ost a sponzoři projekt uví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0519-2892-422F-8200-2B050C2C906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4978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AKTORY ÚSPĚŠ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RŽNÍHO ZHODNOCENÍ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REKREAČNÍCH A ENVIRONMENTÁLNÍCH SLUŽEB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LNKS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20:06:24Z</dcterms:created>
  <dc:creator>Jiří Matějíček</dc:creator>
  <dc:description/>
  <dc:language>en-US</dc:language>
  <cp:lastModifiedBy>POLÍVKA Martin DiS.</cp:lastModifiedBy>
  <dcterms:modified xsi:type="dcterms:W3CDTF">2014-10-23T05:46:29Z</dcterms:modified>
  <cp:revision>439</cp:revision>
  <dc:subject/>
  <dc:title>EKONOMICKÁ STRUKTURA LESNÍHO HOSPODÁŘSTVÍ – RŮZNÉ SMĚRY VÝVOJE</dc:title>
</cp:coreProperties>
</file>