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wmf" ContentType="image/x-wmf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7.wmf" ContentType="image/x-wmf"/>
  <Override PartName="/ppt/media/image9.png" ContentType="image/png"/>
  <Override PartName="/ppt/media/image12.gif" ContentType="image/gif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4F1-AAFA-4643-8E46-2F20A261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16A-A03B-41EE-87FA-C9A2108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E6E-E8FB-40DB-8AEC-5499B4A3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7FB-CC01-469D-B129-C70553FA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406-137D-4448-B46E-BDD758C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56D-6F0B-4187-B891-588B587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FE7-92D1-48BF-A0F7-A97629EF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36C-2231-4A32-B4ED-42131BA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8AB-2EEA-4F08-B465-EC89203E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EC0-D42D-4D21-B404-1375318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4FD-F4A6-46D1-AAFE-AC5A1E7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C5F-A375-4524-89DA-C94E0A7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6F73-0EB9-4674-B403-BE01D020CF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 a individuální přís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hceš vstoupit do cizích s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robuď se ze svých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. E. Ki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2087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amostat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ďte demokratičtí, umožněte žáků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rozhodovat, spolupodílet se a nech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nést odpovídající část odpovědnosti 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jich rozhodování a jedn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dstavivost a fanta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, analogie, užívejte příběh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ďte slovně názorní, popisujte živě a zábavně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nčurův dynamický po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o se veze, nedává pozor na cestu, kdo sám musí jít či řídit, dává pozor, aby neupadl nebo nezabloud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Komenský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održujte zásadu předchozích znal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ěte, co vaši žáci z dané látky již znají, a připravte takové činnosti, které se o tyto znalosti budou opírat nebo je budou rekonstruovat , ilustrovat rozvíjet, rozšiř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vysvětlova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upujte od blízkého ke vzdáleném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známého k neznámém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krétního k abstraktním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snadného k obtížnějším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jednoduchého k složitějším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obecného ke zvláštním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sp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spektujte kulturní kontext. Činnosti ve třídě nechť respektují obě pohlaví a rozličné kul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bejte na rozmanitost. Přizpůsobte výuku učebním stylům svých svěřenců, jejich potřebám a preferencí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spektujte individuální zvláštnosti žáků, jejich předpoklady k učení, jejich rodinné zázemí, zdravotní stav, učební motivaci, zkušenosti, zájmy, vlastnosti a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74991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žák má vlastní, osobní hodnotu. Poznejte ji, stavějte na n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3322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77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Zásada 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z to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e klienti budou učit to, co budou trvale potřeb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e budou schopni si problematiku zapamatovat a později využ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e se naučí tak aby pochopili o co jde a ne aby dospěli k názoru, že tohle se nelze nauč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179280" y="549360"/>
          <a:ext cx="67788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49360"/>
                    <a:ext cx="67788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570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209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ady Pestaloz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zásada jednoty Ruka – Mysl – Poj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anus – Ratio – Orati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ž znamená, 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nemůže předcházet prax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va nesmějí předcházet poznání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rma obsah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164360" y="242100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404640"/>
            <a:ext cx="4835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ktivizač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4038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rincip ini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č tomu, čemu třeba učit, ale tak, že se žák sám o věc pokou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. A. Kome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755640" y="692280"/>
          <a:ext cx="180972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18097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4140360" y="1557360"/>
            <a:ext cx="4695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Zásada uvědomělost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pe nazvat zásadou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Učivo by mělo vychá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vlastní činnos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vlastního zájmu a k praktickému užit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ikoli prostě proto, že je třeba ho probrat předepsáno osnov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3095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043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Škola není místo k plnění sudů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ale k zapalování ohň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j0282752"/>
          <p:cNvPicPr/>
          <p:nvPr/>
        </p:nvPicPr>
        <p:blipFill>
          <a:blip r:embed="rId1"/>
          <a:stretch/>
        </p:blipFill>
        <p:spPr>
          <a:xfrm>
            <a:off x="7451640" y="11592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619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bavení učeb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ient musí mít ve třídě pocit jistoty, stability, zázem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cit člena laskavé komun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tnost vytvoření takové vzájemné komunity je přitom tím větší, čím horší jsou celkové podmínk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větší je zima, tím větší je potřeba tep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j0297072"/>
          <p:cNvPicPr/>
          <p:nvPr/>
        </p:nvPicPr>
        <p:blipFill>
          <a:blip r:embed="rId1"/>
          <a:stretch/>
        </p:blipFill>
        <p:spPr>
          <a:xfrm>
            <a:off x="5364000" y="3603600"/>
            <a:ext cx="1152720" cy="7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7667640" y="4941720"/>
            <a:ext cx="1326960" cy="1773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rcRect l="0" t="22920" r="0" b="0"/>
          <a:stretch/>
        </p:blipFill>
        <p:spPr>
          <a:xfrm>
            <a:off x="684360" y="907920"/>
            <a:ext cx="3240000" cy="186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tiv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ím se liší člověk myslící od nemyslícího, že postihuje důležitost v tom, co jiné nezajím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. G. Masar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3961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obrá motiv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05228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hecuje děti k jedinečné  činnosti, aktivitě a činorodos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myslíme-li si téma naší hry, zaměříme veškeré aktivity včetně tvorby z přírodnin k tomuto témat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elá hra pak působí uceleně a děti vidí nejen její začátek , ale i závě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dagogických zásad týkajících se V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oučasná  výchova učí děti </a:t>
            </a:r>
            <a:r>
              <a:rPr b="0" lang="cs-CZ" sz="3600" spc="-1" strike="noStrike">
                <a:solidFill>
                  <a:srgbClr val="00b050"/>
                </a:solidFill>
                <a:latin typeface="Arial"/>
              </a:rPr>
              <a:t>hleda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, co říci o světě, nabízí jim možnosti jak to </a:t>
            </a:r>
            <a:r>
              <a:rPr b="0" lang="cs-CZ" sz="3600" spc="-1" strike="noStrike">
                <a:solidFill>
                  <a:srgbClr val="00b050"/>
                </a:solidFill>
                <a:latin typeface="Arial"/>
              </a:rPr>
              <a:t>vyjádři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. Tato tvořivá aktivita jim umožňuje dospět k prohloubení prožitku </a:t>
            </a:r>
            <a:r>
              <a:rPr b="0" lang="cs-CZ" sz="3600" spc="-1" strike="noStrike">
                <a:solidFill>
                  <a:srgbClr val="00b050"/>
                </a:solidFill>
                <a:latin typeface="Arial"/>
              </a:rPr>
              <a:t>poznáván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spělý  je pak tím, kdo děti na dobrodružné cestě za objevováním skryté tváře světa doprováz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ra Roese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83664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rostředkovaná výtvarným projevem se obrací k jednotlivci a různými prostředky v něm podporuje schopnost sebeuvědomování, reflexe a sebevyjád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výchovným prostředkem j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uzení záj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ájmu o zvolené téma, zájmu o svět, zájmu o souvislosti a zájmy zabývajícími se vlastními aktivit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ýmov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tvárnění světa přírody a člověk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pomáhá citlivá spoluúča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statních žáků, učitele a odborník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 oboru, kteří se na hledání podílej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6851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Vám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078798"/>
          <p:cNvPicPr/>
          <p:nvPr/>
        </p:nvPicPr>
        <p:blipFill>
          <a:blip r:embed="rId1"/>
          <a:stretch/>
        </p:blipFill>
        <p:spPr>
          <a:xfrm>
            <a:off x="3132000" y="2637000"/>
            <a:ext cx="1254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3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6275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Zásadu názor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- multisenzorali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j. vnímání všemi smy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čím-li někoh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lá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tuj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dím a slyší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dí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yší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10%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2610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iměřenost a soustav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ejí z psychologických zákonitostí: Máme-li ně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zapamatování, musí to zapadat do soustavy našeho dosavadního poznání, musí mít na co navazovat, musí se stát organickou součástí našeho operační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50920" y="3799800"/>
            <a:ext cx="70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4610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měřeno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ku, vyspělosti, nadání, jejich povaze, individuální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láštnostem, stupni pokročilosti, dosavadní úrov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nalostí a schopností, učebnímu či kognitivnímu stylu (způsobu uvažování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 problémů žá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měřenost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ím mladší žác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ím kratší by mělo být  poučová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ím pestřejší metody a for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ím konkrétnější učiv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nější Vaše vedení žák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měřeno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řetěžuj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 na druhou stranu je vytěžujte dostatečně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ďte na ně přiměřeně nároč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tějte od nich kvalitní výsled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skavě přís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ychom byli u dětí úspě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íme hry , které odpovídají příslušné věkové kategorii (s mladšími pohádky, s většími  detektivní expedice pátrající třeba po stopách pravěku nebo po stopách jelena , či původu shozu či jiné pobytové známky zvěře nebo pěstebního zásahu, s nejstaršími podněcujeme tvořivou fantazii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leží také na počasí , roční době druhu lesa (jehličnatý, listnatý, starý, mlad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vál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kytujte svým žákům zpětnou vaz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kytujte jim konstruktivní a rozvíjející hodnocení, dbejte na převahu pravdiv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odporujícího pozitivního hodnoc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09:47:39Z</dcterms:created>
  <dc:creator>Alice</dc:creator>
  <dc:description/>
  <dc:language>en-US</dc:language>
  <cp:lastModifiedBy>Slš</cp:lastModifiedBy>
  <dcterms:modified xsi:type="dcterms:W3CDTF">2013-02-19T13:57:04Z</dcterms:modified>
  <cp:revision>19</cp:revision>
  <dc:subject/>
  <dc:title>Osnova</dc:title>
</cp:coreProperties>
</file>